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2C31-60EC-4DB1-A0D8-A1E28020A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6E95-4481-4645-92C4-D1F492D6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B913-4367-40C5-9164-2B220FA55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31F1-4320-4B6F-B418-FD371AA1D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F449-BE04-4E6B-B2BA-B8E2385E0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B0CA-E8E5-4445-B559-C9DFEEB7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52F4-A491-4D58-911C-418FDC58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6067-0132-449A-8017-260BD353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9FEE-3367-4306-8D73-4D30561D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84EA-2EC9-4F17-A17C-5329A6A8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CAC9-0F1C-4352-AD80-024C639E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18C1-C390-4690-9525-14256431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75E0-6251-4B91-BB31-3FDFFBD2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C47B-C62D-4FA1-8A6E-A259628A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1409-5AE3-474B-9B60-FA2244E3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D82D-0211-4828-9331-4AC028B47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75B8-EC20-4782-8059-34BCCC8FC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0B2D-3225-4E00-9ECC-A5AE17A7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C647-430E-4DFA-9AEE-F6BE6725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E7C8-C86C-4118-BFFF-B711FF32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2D2D-AB8C-4DC4-A848-21EF1F7A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4B05-AFE8-4506-B9DB-F4B5F7BF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C411-510E-402C-8344-170AAB31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EA7A-7BB7-4974-88C2-F6092102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99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9900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E41C-5EC4-4AD6-8ED2-388290B41479}" type="slidenum"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277E-51BC-42D0-803A-F8B82E66EB8E}" type="slidenum">
              <a:rPr b="0" lang="en-US" sz="1400" spc="-1" strike="noStrike">
                <a:solidFill>
                  <a:srgbClr val="99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Prime Companies Inc.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  Broadband Wireless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          World  Forum 2002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3809520"/>
            <a:ext cx="72388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February 12-14 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Anaheim, California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26668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791320" y="2743200"/>
            <a:ext cx="2727360" cy="3278160"/>
            <a:chOff x="5791320" y="2743200"/>
            <a:chExt cx="2727360" cy="327816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5791320" y="2743200"/>
              <a:ext cx="2727360" cy="32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 txBox="1"/>
            <p:nvPr/>
          </p:nvSpPr>
          <p:spPr>
            <a:xfrm>
              <a:off x="5791320" y="2743200"/>
              <a:ext cx="2727360" cy="3278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6699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00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4F16-43C5-47EE-AB3A-05494C1D8ED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elect manufacturer and proper equip’t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valuate throughput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valuate technolog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is the growth potential?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Number of customers per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ub/per sector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What services can be provided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now and later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Focus on equipment pricing-most   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articularly CPE pricing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1271-2EBC-4E06-8E33-DF5DA158D7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fine frequencies to be used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LMDS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5.8 GHZ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2.4 GHZ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ployment method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point to point requirement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point to multipoint requirements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efine equipment hardware requirements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1AF4-013C-4D08-A1DE-4CE594777D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To Deploy A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Wireless Network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Preorder required bandwidth to POP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T1’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S3’s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Use right equipment for right application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Is ATM required?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1F1E-4426-4F91-A57A-4F14F830CE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LMDS" descr=""/>
          <p:cNvPicPr/>
          <p:nvPr/>
        </p:nvPicPr>
        <p:blipFill>
          <a:blip r:embed="rId1"/>
          <a:srcRect l="0" t="7245" r="0" b="15396"/>
          <a:stretch/>
        </p:blipFill>
        <p:spPr>
          <a:xfrm>
            <a:off x="1523880" y="380880"/>
            <a:ext cx="6096240" cy="609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46A5-6E0E-47C8-834C-0E9B9482B9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Create Allianc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Join Chambers of Commerc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them (C of C) become your advocat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Acquaint yourself with Economic Development Agenci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ovide live training sessions to the business communit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28EA-ADB1-4F89-B79A-2DBC35294A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learly define the benefits of your service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Educate your prospective customers on what E-commerce means to them and their busines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Be conscious that your prospective customers are </a:t>
            </a:r>
            <a:r>
              <a:rPr b="1" i="1" lang="en-US" sz="3200" spc="-1" strike="noStrike">
                <a:solidFill>
                  <a:srgbClr val="9900ff"/>
                </a:solidFill>
                <a:latin typeface="Tahoma"/>
              </a:rPr>
              <a:t>starving but they are not hungry!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B531-1872-46B4-86DF-DEAE2C9C7C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does net speed mean to your customers business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Show your customer how speed can save them money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Augment your horizons, serve both business as well as your residential community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Keep in focus that business has a different requirement than the residential customer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D6EC-AC9B-404E-BEC0-8549276AA5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Road To Success 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After Deployment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nsider the fact that in general the residential consumer has minimal impact on bandwidth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ame bandwidth can serve both the business as well as the residential consumer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Business uses net usually 8-5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Residence uses net usually 7-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D80A-BF45-4689-B319-C39814DD64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Do I Get Started in These     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Economic Times?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o not accept anything other than reality. Be a realist!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Make extensive use of the pre-subscription process to assure yourself that you have customer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ere and when possible create alliances with manufacturer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Manufacturers are also going through tough times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5ECF-0AAE-4890-9BE0-B20E74C48B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ow Do I Get Started in These            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Economic Times Continued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mmunicate with your congressional representatives. 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Sell them on your plan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them support you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Look for governmental low interest loan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Remember today what counts is </a:t>
            </a:r>
            <a:r>
              <a:rPr b="1" i="1" lang="en-US" sz="3200" spc="-1" strike="noStrike">
                <a:solidFill>
                  <a:srgbClr val="9900ff"/>
                </a:solidFill>
                <a:latin typeface="Tahoma"/>
              </a:rPr>
              <a:t>PROFIT</a:t>
            </a: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24FE-3356-462E-A5AF-BB90D8A672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Strategies Of Deploying Wireless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Broadband Utilizing LMDS,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Unlicensed Bandwidth</a:t>
            </a:r>
            <a:br>
              <a:rPr sz="3600"/>
            </a:b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(5.8 GHZ and 2.4 GHZ)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886200"/>
            <a:ext cx="7391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Presented By Norbert J. Lima             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    President and CEO</a:t>
            </a:r>
            <a:endParaRPr b="0" lang="en-US" sz="3600" spc="-1" strike="noStrike">
              <a:solidFill>
                <a:srgbClr val="99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Tahoma"/>
              </a:rPr>
              <a:t>Prime Companies Incorporated</a:t>
            </a:r>
            <a:endParaRPr b="0" lang="en-US" sz="3600" spc="-1" strike="noStrike">
              <a:solidFill>
                <a:srgbClr val="99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4F4A-3FD3-47D2-BF49-84B870A19A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History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ime companies participated in the 1999 LMDS auction in the U.S.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Prime companies was successful in acquiring 8 LMDS “A” license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Geographically speaking, these licenses range from western Pennsylvania going in a northerly direction all the way into the state of new York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6FE0-A15B-4FEE-8A73-6577BABF66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Goal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trategic and cost effective deployment of broadband service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Serve all economically feasible markets- both in secondary and tertiary markets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5E70-03FA-4A6D-AD1D-B60865A39A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3366ff"/>
                </a:solidFill>
                <a:latin typeface="Tahoma"/>
              </a:rPr>
              <a:t>       </a:t>
            </a: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of Getting Started</a:t>
            </a:r>
            <a:br>
              <a:rPr sz="3600"/>
            </a:b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Have a business plan with reasonable and realistic expectations, and follow your business plan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at services do you intend to deploy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igh speed internet connectivity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Video conferencing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Virtual private networks (VPN’s)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Point to point data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ial tone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2409-434B-4C33-8F7B-A43886A332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9140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Which service offering, or package of services do you intend to provide first?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7B79-0D24-4E1C-BAEC-4A96FE29C6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ahoma"/>
              </a:rPr>
              <a:t>Considerations before defining market deployment.</a:t>
            </a: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o marketing studies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    where possibl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Understand your markets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     and customer needs/want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Obtain pre-subscriptions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ere possibl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Is bandwidth available?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Negotiate for bandwidth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AAF0-E485-4677-8289-6590991D14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Considerations before defining (con’t)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market makeup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Building size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Avg number of customers per bldg.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How many sectors are req. to provide svc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fine price points for services to be 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deployed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Explore terms of rooftop usage.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6AA1-5D8A-4690-ADC9-FFF150584F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ahoma"/>
              </a:rPr>
              <a:t>Challenges Continued…</a:t>
            </a:r>
            <a:endParaRPr b="0" lang="en-US" sz="3600" spc="-1" strike="noStrike">
              <a:solidFill>
                <a:srgbClr val="3366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Tahoma"/>
              </a:rPr>
              <a:t>Which market to deploy first</a:t>
            </a: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competition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bandwidth availability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Is DSL availabl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Consider location of deployment hub site!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Is radio/hub site readily availabl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What manufacturers’ equipment do you use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ahoma"/>
              </a:rPr>
              <a:t>Do you have pre-subscriptions?</a:t>
            </a:r>
            <a:endParaRPr b="0" lang="en-US" sz="24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0BC4-823D-4E05-8886-26D7663BAB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18:15:46Z</dcterms:created>
  <dc:creator>sondra</dc:creator>
  <dc:description/>
  <dc:language>en-US</dc:language>
  <cp:lastModifiedBy>sondra</cp:lastModifiedBy>
  <dcterms:modified xsi:type="dcterms:W3CDTF">2002-02-08T17:04:38Z</dcterms:modified>
  <cp:revision>83</cp:revision>
  <dc:subject/>
  <dc:title>PowerPoint Presentation</dc:title>
</cp:coreProperties>
</file>