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2.png" ContentType="image/png"/>
  <Override PartName="/ppt/media/image16.png" ContentType="image/png"/>
  <Override PartName="/ppt/media/image15.wmf" ContentType="image/x-wmf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-36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773920"/>
            <a:ext cx="2971800" cy="46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E71031-6D1F-4223-9DBC-E77F46BA94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2248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optimal link rate – other rates could be support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20680" y="69372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2960" y="4387320"/>
            <a:ext cx="5032080" cy="415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7120" rIns="87120" tIns="43560" bIns="435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um cost in the billions of 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170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03600" y="514188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8304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5170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03600" y="5607360"/>
            <a:ext cx="1605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795840" y="2170080"/>
            <a:ext cx="5006880" cy="9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386400" y="560736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30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386400" y="5141880"/>
            <a:ext cx="243396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30400" y="5607360"/>
            <a:ext cx="4987800" cy="4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343080" indent="-343080">
              <a:spcBef>
                <a:spcPts val="499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2" marL="343080" indent="-343080">
              <a:spcBef>
                <a:spcPts val="499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pic>
        <p:nvPicPr>
          <p:cNvPr id="1" name="big_logo" descr=""/>
          <p:cNvPicPr/>
          <p:nvPr/>
        </p:nvPicPr>
        <p:blipFill>
          <a:blip r:embed="rId2"/>
          <a:stretch/>
        </p:blipFill>
        <p:spPr>
          <a:xfrm>
            <a:off x="144360" y="103320"/>
            <a:ext cx="1819440" cy="1647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4589640" y="492120"/>
            <a:ext cx="4554360" cy="7714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52720" y="244440"/>
            <a:ext cx="0" cy="78264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048040" y="1027080"/>
            <a:ext cx="7095960" cy="6523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338040"/>
                <a:tab algn="ctr" pos="4521240"/>
                <a:tab algn="r" pos="874728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ww.atheros.com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Atheros Communications, Inc. </a:t>
            </a: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	</a:t>
            </a:r>
            <a:fld id="{E0E184A8-150F-4B86-925E-1408B1FC48C7}" type="slidenum">
              <a:rPr b="0" lang="en-US" sz="10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08360" y="477720"/>
            <a:ext cx="4535640" cy="96228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big_logo" descr=""/>
          <p:cNvPicPr/>
          <p:nvPr/>
        </p:nvPicPr>
        <p:blipFill>
          <a:blip r:embed="rId2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95840" y="2170080"/>
            <a:ext cx="500688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726000" y="2192400"/>
            <a:ext cx="1440" cy="25956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driving" descr=""/>
          <p:cNvPicPr/>
          <p:nvPr/>
        </p:nvPicPr>
        <p:blipFill>
          <a:blip r:embed="rId3"/>
          <a:stretch/>
        </p:blipFill>
        <p:spPr>
          <a:xfrm>
            <a:off x="2136600" y="817560"/>
            <a:ext cx="3246480" cy="363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2007720" y="244440"/>
            <a:ext cx="1800" cy="10764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05120" y="4768920"/>
            <a:ext cx="5438880" cy="31572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28268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993366"/>
              </a:buClr>
              <a:buSzPct val="9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89280" y="2075040"/>
            <a:ext cx="545472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2</a:t>
            </a:r>
            <a:r>
              <a:rPr b="1" lang="en-US" sz="2400" spc="-1" strike="noStrike" baseline="30000">
                <a:solidFill>
                  <a:srgbClr val="993366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 Generation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Wireless LAN Opportunities</a:t>
            </a:r>
            <a:br>
              <a:rPr sz="2400"/>
            </a:b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and Mass Adoption Challenges</a:t>
            </a:r>
            <a:r>
              <a:rPr b="1" lang="en-US" sz="2800" spc="-1" strike="noStrike">
                <a:solidFill>
                  <a:srgbClr val="99336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Atheros Communications, Inc. | www.atheros.com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56920" y="4764240"/>
            <a:ext cx="44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eb 13, 2002 – Broadband Wireless World 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726000"/>
            <a:ext cx="4962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 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duct Lin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heung@athero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2870280" y="2009880"/>
            <a:ext cx="320364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1g Draft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676600" y="5700600"/>
            <a:ext cx="3697200" cy="459720"/>
          </a:xfrm>
          <a:prstGeom prst="rect">
            <a:avLst/>
          </a:prstGeom>
          <a:solidFill>
            <a:srgbClr val="15bd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ixed mod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How the 11g Draft 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353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932280" y="3170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260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915080" y="3168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1167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23080" y="3156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071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94720" y="3166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49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37240" y="3160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7316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63520" y="3076560"/>
            <a:ext cx="83844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1542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59040" y="3165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41840" y="3164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97840" y="3076560"/>
            <a:ext cx="838080" cy="45720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100000">
                <a:srgbClr val="00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890120" y="3176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16200000">
            <a:off x="1836000" y="2364120"/>
            <a:ext cx="476280" cy="3002040"/>
          </a:xfrm>
          <a:custGeom>
            <a:avLst/>
            <a:gdLst>
              <a:gd name="textAreaLeft" fmla="*/ 304200 w 476280"/>
              <a:gd name="textAreaRight" fmla="*/ 476640 w 476280"/>
              <a:gd name="textAreaTop" fmla="*/ 78120 h 3002040"/>
              <a:gd name="textAreaBottom" fmla="*/ 2923920 h 300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98080" y="4143240"/>
            <a:ext cx="19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b compat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16200000">
            <a:off x="6269040" y="1891800"/>
            <a:ext cx="476280" cy="3994200"/>
          </a:xfrm>
          <a:custGeom>
            <a:avLst/>
            <a:gdLst>
              <a:gd name="textAreaLeft" fmla="*/ 304200 w 476280"/>
              <a:gd name="textAreaRight" fmla="*/ 476640 w 476280"/>
              <a:gd name="textAreaTop" fmla="*/ 104040 h 3994200"/>
              <a:gd name="textAreaBottom" fmla="*/ 3890160 h 399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808960" y="4167360"/>
            <a:ext cx="164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FDM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424160" y="5850000"/>
            <a:ext cx="69404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5467320"/>
            <a:ext cx="689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42880" y="4006800"/>
            <a:ext cx="6910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477800" y="2765520"/>
            <a:ext cx="6924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pport More Users at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6630840" y="1905120"/>
            <a:ext cx="1417680" cy="4284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013120" y="2114640"/>
            <a:ext cx="4371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21120" y="2152800"/>
            <a:ext cx="2489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92200" y="2509920"/>
            <a:ext cx="198288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420560" y="6205680"/>
            <a:ext cx="693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22360" y="2565360"/>
            <a:ext cx="0" cy="364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8040" y="2114640"/>
            <a:ext cx="34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roughput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(Mbps/network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6022800"/>
            <a:ext cx="1828800" cy="16056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28880" y="5888160"/>
            <a:ext cx="1411560" cy="30312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87320" y="5709960"/>
            <a:ext cx="5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37120" y="3459240"/>
            <a:ext cx="1416240" cy="27288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85800" y="260172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8160" y="5266800"/>
            <a:ext cx="63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040" y="3852360"/>
            <a:ext cx="61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95840" y="5326200"/>
            <a:ext cx="1279800" cy="863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 chann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2943360"/>
            <a:ext cx="20574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828800" y="3565800"/>
            <a:ext cx="1835280" cy="307080"/>
          </a:xfrm>
          <a:prstGeom prst="rect">
            <a:avLst/>
          </a:prstGeom>
          <a:solidFill>
            <a:srgbClr val="ffe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11g (draf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048120"/>
            <a:ext cx="1828800" cy="349200"/>
          </a:xfrm>
          <a:prstGeom prst="rect">
            <a:avLst/>
          </a:prstGeom>
          <a:solidFill>
            <a:srgbClr val="99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 1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28800" y="4062600"/>
            <a:ext cx="1809720" cy="307080"/>
          </a:xfrm>
          <a:prstGeom prst="rect">
            <a:avLst/>
          </a:prstGeom>
          <a:solidFill>
            <a:srgbClr val="f92a2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4 GHz 11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3480" y="6326280"/>
            <a:ext cx="230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Source: Agere, Ather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06440" y="1854360"/>
            <a:ext cx="4254480" cy="458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Interferers means Ease of Us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38120" y="1896840"/>
            <a:ext cx="494208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band is congested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nd interferers can affect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etup and operation of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flicting wireless networ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xed wireless broadba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dless ph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wave ove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m (Amateur) Radi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ss than 100 MHz availabl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 to 3 usable channel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51360" y="1841400"/>
            <a:ext cx="4076640" cy="4584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896000" y="1884240"/>
            <a:ext cx="424800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 GHz band is clean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spectrum opera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der rules preventing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arrowband interfer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conflicting protocols allow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true QoS and new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 15 UNII spectrum rul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vent cordless phones,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system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location satellites and Radars remote or in other part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300 MHz availab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4 to 19 usable channels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yth of 2.4 GHz Range Advanta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actors in WLAN System Range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926280" y="2017800"/>
            <a:ext cx="189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5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033960" y="202896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Verdana"/>
              </a:rPr>
              <a:t>2.4 GHz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58840" y="22003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ath 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070080" y="246384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376960" y="247500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50360" y="2519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54520" y="3056040"/>
            <a:ext cx="139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70080" y="349416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76960" y="3505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696120" y="395460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59840" y="3951360"/>
            <a:ext cx="7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+3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7200" y="4844880"/>
            <a:ext cx="8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509112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397480" y="510228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736080" y="586728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x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x 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95640" y="6113520"/>
            <a:ext cx="5335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02160" y="6124680"/>
            <a:ext cx="47808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727080" y="5345280"/>
            <a:ext cx="150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lay Sp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67200" y="5591160"/>
            <a:ext cx="53316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5602320"/>
            <a:ext cx="477720" cy="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055960" y="1108080"/>
            <a:ext cx="7448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1a/b Measured Link Ra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0" y="198288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Link rates of 802.11a are 2 to 5 times those of 802.11b </a:t>
            </a:r>
            <a:br>
              <a:rPr sz="1800"/>
            </a:br>
            <a:r>
              <a:rPr b="1" i="1" lang="en-US" sz="1800" spc="-1" strike="noStrike">
                <a:solidFill>
                  <a:srgbClr val="666633"/>
                </a:solidFill>
                <a:latin typeface="Verdana"/>
              </a:rPr>
              <a:t>at the same distance in actual tests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 rot="10800000">
            <a:off x="1019160" y="2838240"/>
            <a:ext cx="45468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Rate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35320" y="599904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 (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rcRect l="11077" t="9388" r="4431" b="6776"/>
          <a:stretch/>
        </p:blipFill>
        <p:spPr>
          <a:xfrm>
            <a:off x="1536840" y="2722680"/>
            <a:ext cx="6665760" cy="335736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rcRect l="11077" t="9388" r="4431" b="6776"/>
          <a:stretch/>
        </p:blipFill>
        <p:spPr>
          <a:xfrm>
            <a:off x="1536840" y="2730600"/>
            <a:ext cx="6665760" cy="335592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2478240" y="3132000"/>
            <a:ext cx="5238720" cy="2430360"/>
            <a:chOff x="2478240" y="3132000"/>
            <a:chExt cx="5238720" cy="2430360"/>
          </a:xfrm>
        </p:grpSpPr>
        <p:sp>
          <p:nvSpPr>
            <p:cNvPr id="548" name=""/>
            <p:cNvSpPr/>
            <p:nvPr/>
          </p:nvSpPr>
          <p:spPr>
            <a:xfrm>
              <a:off x="2546640" y="3132000"/>
              <a:ext cx="0" cy="19616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478240" y="4255560"/>
              <a:ext cx="66204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5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83600" y="5325120"/>
              <a:ext cx="3240" cy="23724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97680" y="4834800"/>
              <a:ext cx="719280" cy="368280"/>
            </a:xfrm>
            <a:prstGeom prst="rect">
              <a:avLst/>
            </a:prstGeom>
            <a:solidFill>
              <a:srgbClr val="eaeaea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~3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ill MANY Wireless Challenges Ahead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2320" y="1760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Networking ++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urity (802.11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 management, Scheduling, QoS (802.11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aming, InterAccess Point Communications (802.11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adio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cy in the use of spectrum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range of “impairments” to be mana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ing interference (co-channel and adjacent chann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ulatory (international acceptance) (802.11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ortabilit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35480" indent="-28296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ery lif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ecurity in Wireless LAN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here are three layers to wireless security, each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relies on and complements the other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44640" y="3189240"/>
            <a:ext cx="11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, D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57280" y="4098960"/>
            <a:ext cx="5646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6880" y="424008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36760" y="516420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327560" y="530532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, TKIP, 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9160" y="417528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4920" y="5284800"/>
            <a:ext cx="17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95800" y="371628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91120" y="4768920"/>
            <a:ext cx="0" cy="3636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lication Security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VPN’s provide end-to-end application security but creating a secure “tunnel” from the client to the server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657240" y="318924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VPN (Virtual Privat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1640" y="310824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63640" y="4079880"/>
            <a:ext cx="6705720" cy="19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st level of security from one end to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complex and requires most effort to ma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s performance, so hard to scale to large deploy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thentica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x verifies that clients have the credentials to be on the network and increases the security of a data link 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75" name=""/>
          <p:cNvSpPr/>
          <p:nvPr/>
        </p:nvSpPr>
        <p:spPr>
          <a:xfrm>
            <a:off x="2351160" y="3048120"/>
            <a:ext cx="564660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816080" y="31892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802.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2360" y="3108240"/>
            <a:ext cx="159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63640" y="4079880"/>
            <a:ext cx="753264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s networks easier to manage by using extensible authentication methods to regulate access to a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s the security of a data link by refreshing WLAN encryption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Disadvanta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kened by poor data link level 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, HiSWA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ink Encryptio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82680" y="1982880"/>
            <a:ext cx="858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Encryption keeps intruders from eavesdropping on a link, but are dependent on a secure key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2351160" y="304812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92080" y="318924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W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20560" y="3108240"/>
            <a:ext cx="123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63640" y="4079880"/>
            <a:ext cx="782316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E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riginal Wired Equivalent Privacy protocol can be cracked by collecting and analyzing a sufficient amount of data – it needs either a VPN or 802.1x rekeying to be mad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TKIP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oral Key Initialization Protocol is a modification of WEP to defend against known at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AE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dvanced Encryption System is the one designated by the US Govt to replace the 3DES system commonly used in financial and other secur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408560" y="3041640"/>
            <a:ext cx="121896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715640" y="31827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TK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83240" y="3048120"/>
            <a:ext cx="1219320" cy="6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822720" y="318924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33"/>
                </a:solidFill>
                <a:latin typeface="Verdana"/>
              </a:rPr>
              <a:t>A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656160" y="335268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27600" y="3359160"/>
            <a:ext cx="71748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60640" y="3832200"/>
            <a:ext cx="4049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90560" y="384012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95120" y="1150920"/>
            <a:ext cx="7080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ern 802.11a Products are Highly Integrated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676520" y="2549520"/>
            <a:ext cx="6403680" cy="303696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76320" y="4699080"/>
            <a:ext cx="1447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Digital Chip:  MAC, Base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rocessor, ADCs, DAC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Memo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7920" y="4606560"/>
            <a:ext cx="1447560" cy="7621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666880" y="3997440"/>
            <a:ext cx="914400" cy="838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257800" y="575316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Chip:  Power amp, LNA, VCO, SAW filtration, Frequency conversion, Frequency synthesizers, Variable gain am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800600" y="4454640"/>
            <a:ext cx="1371600" cy="13716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19320" y="252576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eg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90920" y="2778120"/>
            <a:ext cx="1554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048120" y="346392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48120" y="346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590920" y="376884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590920" y="277812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23880" y="2778120"/>
            <a:ext cx="1219320" cy="53352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8120" y="3463920"/>
            <a:ext cx="457200" cy="380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24560" y="369252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066680" y="3768480"/>
            <a:ext cx="2210040" cy="1522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143240" y="277164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3525480" y="3762360"/>
            <a:ext cx="623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448160" y="4016520"/>
            <a:ext cx="609480" cy="609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86400" y="3387600"/>
            <a:ext cx="380880" cy="38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607800" y="179532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5715000" y="2091960"/>
            <a:ext cx="990720" cy="152388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92800" y="4762440"/>
            <a:ext cx="498240" cy="311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623400" y="567360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66"/>
                </a:solidFill>
                <a:latin typeface="Times New Roman"/>
              </a:rPr>
              <a:t>32MHz 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4495320" y="4987800"/>
            <a:ext cx="228600" cy="685800"/>
          </a:xfrm>
          <a:prstGeom prst="line">
            <a:avLst/>
          </a:prstGeom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685440" y="2004480"/>
            <a:ext cx="826308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6633"/>
                </a:solidFill>
                <a:latin typeface="Verdana"/>
              </a:rPr>
              <a:t>Closing the gap with wired</a:t>
            </a:r>
            <a:endParaRPr b="1" lang="en-US" sz="22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ireless PCMCIA connections relative to wired (wired =1)</a:t>
            </a:r>
            <a:endParaRPr b="1" lang="en-US" sz="18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86080" y="516888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486080" y="46530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486080" y="412920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86080" y="3613320"/>
            <a:ext cx="5170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86080" y="309708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86080" y="3097080"/>
            <a:ext cx="5170320" cy="25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486080" y="3097080"/>
            <a:ext cx="144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09760" y="568476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409760" y="516888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409760" y="465300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86080" y="5684760"/>
            <a:ext cx="5170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148608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278136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076640" y="5684400"/>
            <a:ext cx="180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536112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6656400" y="5684400"/>
            <a:ext cx="144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86080" y="3359160"/>
            <a:ext cx="1295280" cy="460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81360" y="3819600"/>
            <a:ext cx="1295280" cy="412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76640" y="4232160"/>
            <a:ext cx="1284480" cy="2145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61120" y="4446720"/>
            <a:ext cx="1295280" cy="10296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486080" y="5581800"/>
            <a:ext cx="1295280" cy="1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81360" y="5581800"/>
            <a:ext cx="1295280" cy="6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6880" y="5144760"/>
            <a:ext cx="1284120" cy="4446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5361120" y="4652640"/>
            <a:ext cx="1295280" cy="4762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457280" y="3335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752560" y="379584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48200" y="4208400"/>
            <a:ext cx="57240" cy="475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2320" y="442260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27960" y="4511520"/>
            <a:ext cx="42840" cy="6192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457280" y="555768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52560" y="5557680"/>
            <a:ext cx="4788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48200" y="5549760"/>
            <a:ext cx="47520" cy="39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32320" y="5105520"/>
            <a:ext cx="4788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7960" y="462924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187640" y="556560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62640" y="504972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187640" y="453384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62640" y="40100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187640" y="3494160"/>
            <a:ext cx="110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62640" y="297828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6612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56140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570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14116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436440" y="5851440"/>
            <a:ext cx="439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32680" y="4129200"/>
            <a:ext cx="1228680" cy="52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209000" y="4280040"/>
            <a:ext cx="257040" cy="144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304040" y="4255920"/>
            <a:ext cx="57240" cy="47880"/>
          </a:xfrm>
          <a:custGeom>
            <a:avLst/>
            <a:gdLst/>
            <a:ahLst/>
            <a:rect l="l" t="t" r="r" b="b"/>
            <a:pathLst>
              <a:path w="36" h="30">
                <a:moveTo>
                  <a:pt x="18" y="0"/>
                </a:moveTo>
                <a:lnTo>
                  <a:pt x="36" y="15"/>
                </a:lnTo>
                <a:lnTo>
                  <a:pt x="18" y="30"/>
                </a:lnTo>
                <a:lnTo>
                  <a:pt x="0" y="15"/>
                </a:lnTo>
                <a:lnTo>
                  <a:pt x="18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600320" y="4152960"/>
            <a:ext cx="41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209000" y="4541760"/>
            <a:ext cx="257040" cy="18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304040" y="4518000"/>
            <a:ext cx="47520" cy="39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617960" y="4414680"/>
            <a:ext cx="572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Spe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bility without Cos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"/>
          <p:cNvSpPr/>
          <p:nvPr/>
        </p:nvSpPr>
        <p:spPr>
          <a:xfrm>
            <a:off x="1403280" y="4122720"/>
            <a:ext cx="76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01840" y="3618000"/>
            <a:ext cx="75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15880" y="3092400"/>
            <a:ext cx="76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me Conclusions …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Unlicensed spectra and CMOS technology will combine to allow ubiquitous, low-cost, IP based wireless access (WLAN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, and 802.11a in particular, will dominate this WLAN landscape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LANs are exciting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and exponentially grow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innovation is rapid, continuing (hard problems to sol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ietal impacts have but begun to be seen (rapid chan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679" name=""/>
          <p:cNvSpPr/>
          <p:nvPr/>
        </p:nvSpPr>
        <p:spPr>
          <a:xfrm>
            <a:off x="1703520" y="12600"/>
            <a:ext cx="4800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ture: Conclu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4016160" y="4764240"/>
            <a:ext cx="126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July 25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44800" y="2195280"/>
            <a:ext cx="4959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3366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3830400" y="5141880"/>
            <a:ext cx="49878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523880" y="-422280"/>
            <a:ext cx="11741040" cy="820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449280"/>
            <a:ext cx="9144000" cy="96192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0" y="1254240"/>
            <a:ext cx="9144000" cy="3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983120" y="3944880"/>
            <a:ext cx="4160880" cy="5724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6640560"/>
            <a:ext cx="9144000" cy="21744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big_logo" descr=""/>
          <p:cNvPicPr/>
          <p:nvPr/>
        </p:nvPicPr>
        <p:blipFill>
          <a:blip r:embed="rId1"/>
          <a:stretch/>
        </p:blipFill>
        <p:spPr>
          <a:xfrm>
            <a:off x="0" y="2101680"/>
            <a:ext cx="3516480" cy="3183120"/>
          </a:xfrm>
          <a:prstGeom prst="rect">
            <a:avLst/>
          </a:prstGeom>
          <a:ln w="0">
            <a:noFill/>
          </a:ln>
        </p:spPr>
      </p:pic>
      <p:pic>
        <p:nvPicPr>
          <p:cNvPr id="689" name="driving" descr=""/>
          <p:cNvPicPr/>
          <p:nvPr/>
        </p:nvPicPr>
        <p:blipFill>
          <a:blip r:embed="rId2"/>
          <a:stretch/>
        </p:blipFill>
        <p:spPr>
          <a:xfrm>
            <a:off x="3336840" y="3425760"/>
            <a:ext cx="5545080" cy="62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reless Data Delivery Alterna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2320" y="1982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WAN, 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5G, 3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2.4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5.0 GHz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perLAN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Proprietary, Non-Standard, Unlicensed Ban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W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197080" y="3241800"/>
            <a:ext cx="3719520" cy="99828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172960" y="4597560"/>
            <a:ext cx="3776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63040" y="405936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50480" y="3645000"/>
            <a:ext cx="9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Aka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86440" y="438948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-Fi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9360" y="2009880"/>
            <a:ext cx="8248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802.11 is the clear winner (Wireless Ethernet)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less Ethernet is familiar, IP based, immediately usefu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ly supported, deployed on access points and s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ilable for computing, consumer electronics, telematics ap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iperLAN2, HiSWANa will not be volume markets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nging to existence with QoS and DFS/TP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($, wireless ATM), late, centralized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European, Japan manufacturers now 802.11 suppor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HomeRF is overshadowed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RF 2.0 is too little, too l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l has dropped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Verdana"/>
              </a:rPr>
              <a:t>Bluetooth is for personal area networks </a:t>
            </a:r>
            <a:endParaRPr b="1" lang="en-US" sz="2000" spc="-1" strike="noStrike">
              <a:solidFill>
                <a:srgbClr val="666633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66cc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dwidth, efficiency, system capacity limi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133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licensed Winner: 802.11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7600" y="28080"/>
            <a:ext cx="7466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edictions, Myths, and Assertions 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454480" y="1133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802.11 is Everywher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MoxiProductFamily2" descr=""/>
          <p:cNvPicPr/>
          <p:nvPr/>
        </p:nvPicPr>
        <p:blipFill>
          <a:blip r:embed="rId1"/>
          <a:stretch/>
        </p:blipFill>
        <p:spPr>
          <a:xfrm>
            <a:off x="3684600" y="3032280"/>
            <a:ext cx="2390760" cy="1809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575160" y="1728720"/>
            <a:ext cx="2079360" cy="1535040"/>
          </a:xfrm>
          <a:prstGeom prst="rect">
            <a:avLst/>
          </a:prstGeom>
          <a:ln w="0">
            <a:noFill/>
          </a:ln>
        </p:spPr>
      </p:pic>
      <p:pic>
        <p:nvPicPr>
          <p:cNvPr id="115" name="Proxim_ap_pccard" descr=""/>
          <p:cNvPicPr/>
          <p:nvPr/>
        </p:nvPicPr>
        <p:blipFill>
          <a:blip r:embed="rId3"/>
          <a:stretch/>
        </p:blipFill>
        <p:spPr>
          <a:xfrm>
            <a:off x="1389240" y="2935440"/>
            <a:ext cx="1774800" cy="1627200"/>
          </a:xfrm>
          <a:prstGeom prst="rect">
            <a:avLst/>
          </a:prstGeom>
          <a:ln w="0">
            <a:noFill/>
          </a:ln>
        </p:spPr>
      </p:pic>
      <p:pic>
        <p:nvPicPr>
          <p:cNvPr id="116" name="IBM_ThinkPad@ThinkPad_T_Series" descr=""/>
          <p:cNvPicPr/>
          <p:nvPr/>
        </p:nvPicPr>
        <p:blipFill>
          <a:blip r:embed="rId4"/>
          <a:stretch/>
        </p:blipFill>
        <p:spPr>
          <a:xfrm>
            <a:off x="372960" y="1728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Intel_AP_w_cards2" descr=""/>
          <p:cNvPicPr/>
          <p:nvPr/>
        </p:nvPicPr>
        <p:blipFill>
          <a:blip r:embed="rId5"/>
          <a:stretch/>
        </p:blipFill>
        <p:spPr>
          <a:xfrm>
            <a:off x="760320" y="4292640"/>
            <a:ext cx="145584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0984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nsumer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97480" y="5676840"/>
            <a:ext cx="248292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Vehicula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040" y="5676840"/>
            <a:ext cx="2386080" cy="6426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108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Comput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021200" y="4299120"/>
          <a:ext cx="1514520" cy="1323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21200" y="4299120"/>
                    <a:ext cx="151452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3" name="ov_mn_sm_photo" descr=""/>
          <p:cNvPicPr/>
          <p:nvPr/>
        </p:nvPicPr>
        <p:blipFill>
          <a:blip r:embed="rId8"/>
          <a:stretch/>
        </p:blipFill>
        <p:spPr>
          <a:xfrm>
            <a:off x="6491160" y="3876840"/>
            <a:ext cx="2222640" cy="130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6451560" y="2286000"/>
          <a:ext cx="2162160" cy="106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51560" y="2286000"/>
                    <a:ext cx="2162160" cy="10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70214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LAN Data Attractivenes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2680" y="1982880"/>
          <a:ext cx="8485200" cy="4236840"/>
        </p:xfrm>
        <a:graphic>
          <a:graphicData uri="http://schemas.openxmlformats.org/drawingml/2006/table">
            <a:tbl>
              <a:tblPr/>
              <a:tblGrid>
                <a:gridCol w="2828880"/>
                <a:gridCol w="3021120"/>
                <a:gridCol w="263520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t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.5 MHz+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MHz (US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c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MHz channels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_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 per link max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Hz chan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wer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um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 Gb/Wh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4Mbps @ 1.4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 Gb/Wh (2G)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Kbps @ 1.3W pea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station ~$150 &amp; d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it more costly 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004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laptops, PDAs, home, enterprise, public 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just 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Future is in 5 GHz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49440" y="24922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152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19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67160" y="24004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2416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65680" y="24145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11520" y="2406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11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5952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096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08600" y="2392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08600" y="2432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54800" y="241920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5480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24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0424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51880" y="240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03400" y="2116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9440" y="1733400"/>
            <a:ext cx="17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2 GHz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78040" y="2098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00480" y="2097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6960" y="2092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79920" y="2089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16400" y="208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70520" y="2079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92960" y="2090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80200" y="2085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23160" y="208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59640" y="20779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3600" y="2351160"/>
            <a:ext cx="503280" cy="3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3610080"/>
            <a:ext cx="7897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540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1304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60680" y="3517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1804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920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776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05400" y="35244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0540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304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54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02480" y="3510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02480" y="354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0068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48320" y="35370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4832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0959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9776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745400" y="3522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96920" y="323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4960" y="2851200"/>
            <a:ext cx="251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U.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71920" y="3216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94000" y="3214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0480" y="32097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673440" y="3206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10280" y="32018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64040" y="3197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6480" y="3208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74080" y="3203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16680" y="3200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3520" y="3195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54240" y="3478320"/>
            <a:ext cx="1417680" cy="33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04000" y="3478320"/>
            <a:ext cx="874800" cy="33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4920" y="3478320"/>
            <a:ext cx="519120" cy="333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8160" y="471492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060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3824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85880" y="4622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324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8476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8296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30600" y="46292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30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7860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8004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27680" y="4614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27680" y="4654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3880" y="464184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388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2152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22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770960" y="462744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22480" y="4338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160" y="3956040"/>
            <a:ext cx="279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97120" y="43210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9560" y="43196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56040" y="4314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99000" y="43117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5480" y="4307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89600" y="43020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12040" y="4313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308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942240" y="43052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78720" y="4300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9800" y="4583160"/>
            <a:ext cx="1417320" cy="333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29000" y="4583160"/>
            <a:ext cx="1596960" cy="333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560" y="5718240"/>
            <a:ext cx="78980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7800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2564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73280" y="56260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3064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7180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7036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18000" y="56325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1800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656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6744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815080" y="5618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15080" y="56577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13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61280" y="564516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6128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892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11036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758000" y="5630760"/>
            <a:ext cx="0" cy="19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09880" y="5342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2960" y="4959360"/>
            <a:ext cx="26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66"/>
                </a:solidFill>
                <a:latin typeface="Verdana"/>
              </a:rPr>
              <a:t>5 GHz Spectrum in Jap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84520" y="53244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6600" y="53229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3440" y="53182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86400" y="531504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22880" y="53103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77000" y="530532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9080" y="53164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6680" y="531180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29640" y="53085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66120" y="530388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66840" y="5586480"/>
            <a:ext cx="757440" cy="3333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66080" y="3865680"/>
            <a:ext cx="361800" cy="2212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05520" y="6033960"/>
            <a:ext cx="3138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ew Allocation f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Vehicular (Telematics) Appl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57400" y="2122560"/>
          <a:ext cx="6986520" cy="3798720"/>
        </p:xfrm>
        <a:graphic>
          <a:graphicData uri="http://schemas.openxmlformats.org/drawingml/2006/table">
            <a:tbl>
              <a:tblPr/>
              <a:tblGrid>
                <a:gridCol w="2144520"/>
                <a:gridCol w="2422440"/>
                <a:gridCol w="241956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b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2.11a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-Fi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a Rate per Channe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11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– 54Mbp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 of Operation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-2.483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5-5.35GHz, 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25-5.825G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ailable Bandwidth (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.5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+MH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Non-Overlapping Channel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ulation Typ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D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0960" y="103320"/>
            <a:ext cx="749304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ation Techniques: 802.11a, 802.11b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1234440" y="3529080"/>
            <a:ext cx="19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.00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 / 0.72</a:t>
            </a: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1600" y="2319480"/>
            <a:ext cx="32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SSS / CCK (1-8 bits/s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82840" y="173196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43920" y="353376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9000" y="2293920"/>
            <a:ext cx="29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FDM (52 sub-carri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870440" y="2590920"/>
            <a:ext cx="3852720" cy="1471680"/>
            <a:chOff x="4870440" y="2590920"/>
            <a:chExt cx="3852720" cy="1471680"/>
          </a:xfrm>
        </p:grpSpPr>
        <p:sp>
          <p:nvSpPr>
            <p:cNvPr id="273" name=""/>
            <p:cNvSpPr/>
            <p:nvPr/>
          </p:nvSpPr>
          <p:spPr>
            <a:xfrm>
              <a:off x="4870440" y="3389040"/>
              <a:ext cx="38527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2196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1980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785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576760" y="2714400"/>
              <a:ext cx="3168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362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7355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9284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89284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0505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0498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1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20712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48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364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140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521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7872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66783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3640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8356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85808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580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11880" y="2590920"/>
              <a:ext cx="4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2b2b2"/>
                  </a:solidFill>
                  <a:latin typeface="Arial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74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7400" y="3473280"/>
              <a:ext cx="35388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566200" y="3135240"/>
              <a:ext cx="0" cy="4219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701480" y="27144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700760" y="27144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6135840" y="1700280"/>
            <a:ext cx="1384200" cy="4597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24920" y="4114800"/>
            <a:ext cx="4345560" cy="1305360"/>
            <a:chOff x="4624920" y="4114800"/>
            <a:chExt cx="4345560" cy="1305360"/>
          </a:xfrm>
        </p:grpSpPr>
        <p:grpSp>
          <p:nvGrpSpPr>
            <p:cNvPr id="304" name=""/>
            <p:cNvGrpSpPr/>
            <p:nvPr/>
          </p:nvGrpSpPr>
          <p:grpSpPr>
            <a:xfrm>
              <a:off x="4624920" y="4114800"/>
              <a:ext cx="915120" cy="1305360"/>
              <a:chOff x="4624920" y="4114800"/>
              <a:chExt cx="915120" cy="130536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4632120" y="4114800"/>
                <a:ext cx="907920" cy="915480"/>
                <a:chOff x="4632120" y="4114800"/>
                <a:chExt cx="907920" cy="9154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4632120" y="4114800"/>
                  <a:ext cx="907920" cy="915480"/>
                  <a:chOff x="4632120" y="4114800"/>
                  <a:chExt cx="907920" cy="91548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 flipV="1">
                    <a:off x="463212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8608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4717800" y="4502160"/>
                  <a:ext cx="736560" cy="141120"/>
                  <a:chOff x="4717800" y="4502160"/>
                  <a:chExt cx="736560" cy="141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471780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314680" y="450216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2" name=""/>
              <p:cNvSpPr/>
              <p:nvPr/>
            </p:nvSpPr>
            <p:spPr>
              <a:xfrm>
                <a:off x="4624920" y="502128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754600" y="4114800"/>
              <a:ext cx="907920" cy="1305360"/>
              <a:chOff x="5754600" y="4114800"/>
              <a:chExt cx="907920" cy="130536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5754600" y="4114800"/>
                <a:ext cx="907920" cy="915480"/>
                <a:chOff x="5754600" y="4114800"/>
                <a:chExt cx="907920" cy="91548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54600" y="4114800"/>
                  <a:ext cx="907920" cy="915480"/>
                  <a:chOff x="5754600" y="4114800"/>
                  <a:chExt cx="907920" cy="91548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 flipV="1">
                    <a:off x="575460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0856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910120" y="4273560"/>
                  <a:ext cx="596160" cy="597960"/>
                  <a:chOff x="5910120" y="4273560"/>
                  <a:chExt cx="596160" cy="597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91012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6366960" y="473040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91012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6366960" y="427356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3" name=""/>
              <p:cNvSpPr/>
              <p:nvPr/>
            </p:nvSpPr>
            <p:spPr>
              <a:xfrm>
                <a:off x="5759280" y="502128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05440" y="4114800"/>
              <a:ext cx="1058400" cy="1305360"/>
              <a:chOff x="6805440" y="4114800"/>
              <a:chExt cx="1058400" cy="1305360"/>
            </a:xfrm>
          </p:grpSpPr>
          <p:grpSp>
            <p:nvGrpSpPr>
              <p:cNvPr id="325" name=""/>
              <p:cNvGrpSpPr/>
              <p:nvPr/>
            </p:nvGrpSpPr>
            <p:grpSpPr>
              <a:xfrm>
                <a:off x="6879960" y="4114800"/>
                <a:ext cx="907920" cy="915480"/>
                <a:chOff x="6879960" y="4114800"/>
                <a:chExt cx="907920" cy="91548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879960" y="4114800"/>
                  <a:ext cx="907920" cy="915480"/>
                  <a:chOff x="6879960" y="4114800"/>
                  <a:chExt cx="907920" cy="91548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87996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733392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921360" y="4159080"/>
                  <a:ext cx="825480" cy="827280"/>
                  <a:chOff x="6921360" y="4159080"/>
                  <a:chExt cx="825480" cy="8272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69213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73785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69213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3785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69213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73785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9213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3785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1499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607160" y="48448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1499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607160" y="43876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1499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607160" y="46162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499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607160" y="4159080"/>
                    <a:ext cx="139680" cy="1414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6" name=""/>
              <p:cNvSpPr/>
              <p:nvPr/>
            </p:nvSpPr>
            <p:spPr>
              <a:xfrm>
                <a:off x="680544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16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7912080" y="4114800"/>
              <a:ext cx="1058400" cy="1305360"/>
              <a:chOff x="7912080" y="4114800"/>
              <a:chExt cx="1058400" cy="13053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7988040" y="4114800"/>
                <a:ext cx="907920" cy="915480"/>
                <a:chOff x="7988040" y="4114800"/>
                <a:chExt cx="907920" cy="915480"/>
              </a:xfrm>
            </p:grpSpPr>
            <p:grpSp>
              <p:nvGrpSpPr>
                <p:cNvPr id="349" name=""/>
                <p:cNvGrpSpPr/>
                <p:nvPr/>
              </p:nvGrpSpPr>
              <p:grpSpPr>
                <a:xfrm>
                  <a:off x="8005320" y="4132080"/>
                  <a:ext cx="874800" cy="880920"/>
                  <a:chOff x="8005320" y="4132080"/>
                  <a:chExt cx="874800" cy="88092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>
                    <a:off x="80053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84625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82339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69112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1198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5770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348400" y="48225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807040" y="48240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0053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625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2339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69112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1198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5770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34840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8807040" y="43606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80053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625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339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869112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81198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85770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8348400" y="45907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8807040" y="459216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80053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84625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82339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869112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1198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85770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834840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8807040" y="4132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80053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4625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2339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691120" y="49384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81198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5770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4840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807040" y="493992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0053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4625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2339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69112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1198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5770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48400" y="4476600"/>
                    <a:ext cx="73080" cy="727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807040" y="44748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0053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4625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2339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691120" y="470664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1198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85770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834840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8807040" y="470808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80053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84625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82339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869112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81198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85770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834840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8807040" y="4246200"/>
                    <a:ext cx="73080" cy="7308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7988040" y="4114800"/>
                  <a:ext cx="907920" cy="915480"/>
                  <a:chOff x="7988040" y="4114800"/>
                  <a:chExt cx="907920" cy="915480"/>
                </a:xfrm>
              </p:grpSpPr>
              <p:sp>
                <p:nvSpPr>
                  <p:cNvPr id="415" name=""/>
                  <p:cNvSpPr/>
                  <p:nvPr/>
                </p:nvSpPr>
                <p:spPr>
                  <a:xfrm flipV="1">
                    <a:off x="7988040" y="457092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8442000" y="411480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7" name=""/>
              <p:cNvSpPr/>
              <p:nvPr/>
            </p:nvSpPr>
            <p:spPr>
              <a:xfrm>
                <a:off x="7912080" y="5021280"/>
                <a:ext cx="105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64QA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" name=""/>
          <p:cNvSpPr/>
          <p:nvPr/>
        </p:nvSpPr>
        <p:spPr>
          <a:xfrm>
            <a:off x="4564440" y="5389560"/>
            <a:ext cx="44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/2, 2/3, 3/4-rate convolutional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87200">
            <a:off x="5133600" y="356076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21147000">
            <a:off x="5971680" y="3547800"/>
            <a:ext cx="304920" cy="533160"/>
          </a:xfrm>
          <a:prstGeom prst="downArrow">
            <a:avLst>
              <a:gd name="adj1" fmla="val 50000"/>
              <a:gd name="adj2" fmla="val 4371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589400">
            <a:off x="7356600" y="3522240"/>
            <a:ext cx="304560" cy="533520"/>
          </a:xfrm>
          <a:prstGeom prst="downArrow">
            <a:avLst>
              <a:gd name="adj1" fmla="val 50000"/>
              <a:gd name="adj2" fmla="val 43794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20269200">
            <a:off x="8153280" y="351468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58720" y="5942160"/>
            <a:ext cx="8086680" cy="459720"/>
            <a:chOff x="558720" y="5942160"/>
            <a:chExt cx="8086680" cy="459720"/>
          </a:xfrm>
        </p:grpSpPr>
        <p:sp>
          <p:nvSpPr>
            <p:cNvPr id="424" name=""/>
            <p:cNvSpPr/>
            <p:nvPr/>
          </p:nvSpPr>
          <p:spPr>
            <a:xfrm>
              <a:off x="558720" y="5942160"/>
              <a:ext cx="328932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Reduced complex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48200" y="5942160"/>
              <a:ext cx="3697200" cy="459720"/>
            </a:xfrm>
            <a:prstGeom prst="rect">
              <a:avLst/>
            </a:prstGeom>
            <a:solidFill>
              <a:srgbClr val="15bdeb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</a:rPr>
                <a:t>Increased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205640" y="4121280"/>
            <a:ext cx="2037600" cy="1305360"/>
            <a:chOff x="1205640" y="4121280"/>
            <a:chExt cx="2037600" cy="1305360"/>
          </a:xfrm>
        </p:grpSpPr>
        <p:grpSp>
          <p:nvGrpSpPr>
            <p:cNvPr id="427" name=""/>
            <p:cNvGrpSpPr/>
            <p:nvPr/>
          </p:nvGrpSpPr>
          <p:grpSpPr>
            <a:xfrm>
              <a:off x="1205640" y="4121280"/>
              <a:ext cx="915120" cy="1305360"/>
              <a:chOff x="1205640" y="4121280"/>
              <a:chExt cx="915120" cy="1305360"/>
            </a:xfrm>
          </p:grpSpPr>
          <p:grpSp>
            <p:nvGrpSpPr>
              <p:cNvPr id="428" name=""/>
              <p:cNvGrpSpPr/>
              <p:nvPr/>
            </p:nvGrpSpPr>
            <p:grpSpPr>
              <a:xfrm>
                <a:off x="1212840" y="4121280"/>
                <a:ext cx="907920" cy="915480"/>
                <a:chOff x="1212840" y="4121280"/>
                <a:chExt cx="907920" cy="91548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1212840" y="4121280"/>
                  <a:ext cx="907920" cy="915480"/>
                  <a:chOff x="1212840" y="4121280"/>
                  <a:chExt cx="907920" cy="91548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121284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166680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1298520" y="4508640"/>
                  <a:ext cx="736560" cy="141120"/>
                  <a:chOff x="1298520" y="4508640"/>
                  <a:chExt cx="736560" cy="14112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129852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1895400" y="4508640"/>
                    <a:ext cx="13968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35" name=""/>
              <p:cNvSpPr/>
              <p:nvPr/>
            </p:nvSpPr>
            <p:spPr>
              <a:xfrm>
                <a:off x="1205640" y="5027760"/>
                <a:ext cx="88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B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2335320" y="4121280"/>
              <a:ext cx="907920" cy="1305360"/>
              <a:chOff x="2335320" y="4121280"/>
              <a:chExt cx="907920" cy="13053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2335320" y="4121280"/>
                <a:ext cx="907920" cy="915480"/>
                <a:chOff x="2335320" y="4121280"/>
                <a:chExt cx="907920" cy="9154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2335320" y="4121280"/>
                  <a:ext cx="907920" cy="915480"/>
                  <a:chOff x="2335320" y="4121280"/>
                  <a:chExt cx="907920" cy="91548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335320" y="4577400"/>
                    <a:ext cx="907920" cy="144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789280" y="4121280"/>
                    <a:ext cx="0" cy="915480"/>
                  </a:xfrm>
                  <a:prstGeom prst="line">
                    <a:avLst/>
                  </a:prstGeom>
                  <a:ln w="190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2490840" y="4280040"/>
                  <a:ext cx="596160" cy="597960"/>
                  <a:chOff x="2490840" y="4280040"/>
                  <a:chExt cx="596160" cy="59796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249084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947680" y="473688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49084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947680" y="4280040"/>
                    <a:ext cx="139320" cy="141120"/>
                  </a:xfrm>
                  <a:prstGeom prst="ellipse">
                    <a:avLst/>
                  </a:prstGeom>
                  <a:solidFill>
                    <a:srgbClr val="00cc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6" name=""/>
              <p:cNvSpPr/>
              <p:nvPr/>
            </p:nvSpPr>
            <p:spPr>
              <a:xfrm>
                <a:off x="2340000" y="5027760"/>
                <a:ext cx="90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"/>
                  </a:rPr>
                  <a:t>QPS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7" name=""/>
          <p:cNvGrpSpPr/>
          <p:nvPr/>
        </p:nvGrpSpPr>
        <p:grpSpPr>
          <a:xfrm>
            <a:off x="633240" y="2792520"/>
            <a:ext cx="3469680" cy="545760"/>
            <a:chOff x="633240" y="2792520"/>
            <a:chExt cx="3469680" cy="545760"/>
          </a:xfrm>
        </p:grpSpPr>
        <p:sp>
          <p:nvSpPr>
            <p:cNvPr id="448" name=""/>
            <p:cNvSpPr/>
            <p:nvPr/>
          </p:nvSpPr>
          <p:spPr>
            <a:xfrm>
              <a:off x="633240" y="3065400"/>
              <a:ext cx="346968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3240" y="2792520"/>
              <a:ext cx="3469680" cy="545760"/>
            </a:xfrm>
            <a:custGeom>
              <a:avLst/>
              <a:gdLst/>
              <a:ahLst/>
              <a:rect l="l" t="t" r="r" b="b"/>
              <a:pathLst>
                <a:path w="1056" h="336">
                  <a:moveTo>
                    <a:pt x="0" y="0"/>
                  </a:moveTo>
                  <a:lnTo>
                    <a:pt x="96" y="0"/>
                  </a:lnTo>
                  <a:lnTo>
                    <a:pt x="96" y="336"/>
                  </a:lnTo>
                  <a:lnTo>
                    <a:pt x="192" y="336"/>
                  </a:lnTo>
                  <a:lnTo>
                    <a:pt x="192" y="0"/>
                  </a:lnTo>
                  <a:lnTo>
                    <a:pt x="384" y="0"/>
                  </a:lnTo>
                  <a:lnTo>
                    <a:pt x="384" y="336"/>
                  </a:lnTo>
                  <a:lnTo>
                    <a:pt x="480" y="336"/>
                  </a:lnTo>
                  <a:lnTo>
                    <a:pt x="480" y="0"/>
                  </a:lnTo>
                  <a:lnTo>
                    <a:pt x="768" y="0"/>
                  </a:lnTo>
                  <a:lnTo>
                    <a:pt x="768" y="336"/>
                  </a:lnTo>
                  <a:lnTo>
                    <a:pt x="1056" y="336"/>
                  </a:lnTo>
                </a:path>
              </a:pathLst>
            </a:custGeom>
            <a:noFill/>
            <a:ln w="38160">
              <a:solidFill>
                <a:srgbClr val="00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595440" y="3473280"/>
            <a:ext cx="3538440" cy="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95440" y="3398760"/>
            <a:ext cx="3538440" cy="155520"/>
            <a:chOff x="595440" y="3398760"/>
            <a:chExt cx="3538440" cy="155520"/>
          </a:xfrm>
        </p:grpSpPr>
        <p:sp>
          <p:nvSpPr>
            <p:cNvPr id="452" name=""/>
            <p:cNvSpPr/>
            <p:nvPr/>
          </p:nvSpPr>
          <p:spPr>
            <a:xfrm>
              <a:off x="59544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133880" y="3398760"/>
              <a:ext cx="0" cy="15552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 rot="20216400">
            <a:off x="905040" y="3664080"/>
            <a:ext cx="304560" cy="533160"/>
          </a:xfrm>
          <a:prstGeom prst="downArrow">
            <a:avLst>
              <a:gd name="adj1" fmla="val 50000"/>
              <a:gd name="adj2" fmla="val 4376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588800">
            <a:off x="3317760" y="35496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22560" y="1141560"/>
            <a:ext cx="671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paring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and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Gen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03:19:41Z</dcterms:created>
  <dc:creator>Jeff Gilbert</dc:creator>
  <dc:description/>
  <dc:language>en-US</dc:language>
  <cp:lastModifiedBy>Sheung Li</cp:lastModifiedBy>
  <dcterms:modified xsi:type="dcterms:W3CDTF">2002-02-08T17:33:38Z</dcterms:modified>
  <cp:revision>618</cp:revision>
  <dc:subject>Wireless Internet 2001 Presentation</dc:subject>
  <dc:title>802.11a: A Real Networking Technology</dc:title>
</cp:coreProperties>
</file>