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14E-FBBC-4C31-ABDA-E16C2D99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493-D4A1-4C96-AD4E-08EE2AA2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F11D-55A6-433F-AC42-E5294D05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1B94-1A1C-454B-A067-6A02A69F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6F30-5B7C-4775-932F-242089D2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095D-5742-41DC-A65C-21AA4180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45EE-8604-4941-9400-6DB740D2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C43A-E9C3-42D1-BEF3-10590334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F2D2-914A-4B63-BD4C-78DAAACE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A096-C937-4DAE-83D1-F63FD066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1E43-1818-4127-B1CB-E17CB0DB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A83-2E82-4116-AD54-1FE7EC21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26F9-7030-4953-914E-6A3AD450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E0F4-ECAF-4F14-97DA-BFF1CBD8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3A28-9BBB-44F8-AA2C-CE7DEF67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565E-B822-4691-BDAD-FB7E7136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124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28880" y="1855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73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124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28880" y="400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EFAC-7979-4DA1-AE44-7F08E91D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5C9-B000-4FF5-BD11-95CA01C5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CD8-9A07-4641-9F5D-17386F48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8D1-D4F9-4B06-8F62-4CBB98C7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AF2-6AC8-4DB2-8B16-E539543B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CA4-5BB3-4450-906A-9896AD1D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5920" y="400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D4F-60A3-4209-8D3D-231A6C18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5920" y="1855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3240" y="400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06F-0288-4656-9CBD-819FDA98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1880" y="0"/>
            <a:ext cx="1064520" cy="6861240"/>
            <a:chOff x="-11880" y="0"/>
            <a:chExt cx="1064520" cy="6861240"/>
          </a:xfrm>
        </p:grpSpPr>
        <p:sp>
          <p:nvSpPr>
            <p:cNvPr id="1" name=""/>
            <p:cNvSpPr/>
            <p:nvPr/>
          </p:nvSpPr>
          <p:spPr>
            <a:xfrm flipH="1">
              <a:off x="37440" y="0"/>
              <a:ext cx="990360" cy="683748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37440" y="1698480"/>
              <a:ext cx="990360" cy="5018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37440" y="129060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37440" y="15408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7440" y="990720"/>
              <a:ext cx="990360" cy="3492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37440" y="685800"/>
              <a:ext cx="990360" cy="43164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7440" y="377640"/>
              <a:ext cx="1003320" cy="37476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9520" y="3943440"/>
              <a:ext cx="990360" cy="50004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29520" y="354024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9520" y="2400120"/>
              <a:ext cx="990360" cy="3049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9520" y="3236760"/>
              <a:ext cx="990360" cy="349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29520" y="2933640"/>
              <a:ext cx="990360" cy="428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29520" y="262260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37440" y="4975200"/>
              <a:ext cx="990360" cy="5014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37440" y="4567320"/>
              <a:ext cx="990360" cy="50328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29520" y="5675400"/>
              <a:ext cx="990360" cy="30312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 rot="16200000">
              <a:off x="353160" y="6190200"/>
              <a:ext cx="34596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29520" y="6207120"/>
              <a:ext cx="990360" cy="43020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29520" y="5897520"/>
              <a:ext cx="1003320" cy="3762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6200000">
              <a:off x="-3114000" y="310500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6200000">
              <a:off x="-2525400" y="328104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3047760" y="6048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4952880" y="60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7848360" y="604836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BBC3-2AF5-4238-8263-D55BE15DA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2438280" y="650556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orldwide Interoperability for Microwave Access 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</a:rPr>
              <a:t>forum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1066680" y="6156360"/>
          <a:ext cx="1371600" cy="6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156360"/>
                    <a:ext cx="13716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flipH="1" rot="5400000">
            <a:off x="4088520" y="-1575720"/>
            <a:ext cx="990720" cy="912024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"/>
          <p:cNvSpPr/>
          <p:nvPr/>
        </p:nvSpPr>
        <p:spPr>
          <a:xfrm flipH="1" rot="5400000">
            <a:off x="6049800" y="2649960"/>
            <a:ext cx="990720" cy="6685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"/>
          <p:cNvSpPr/>
          <p:nvPr/>
        </p:nvSpPr>
        <p:spPr>
          <a:xfrm flipH="1" rot="5400000">
            <a:off x="6591240" y="2649600"/>
            <a:ext cx="990720" cy="6696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"/>
          <p:cNvSpPr/>
          <p:nvPr/>
        </p:nvSpPr>
        <p:spPr>
          <a:xfrm flipH="1" rot="5400000">
            <a:off x="8241480" y="278208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"/>
          <p:cNvSpPr/>
          <p:nvPr/>
        </p:nvSpPr>
        <p:spPr>
          <a:xfrm flipH="1" rot="5400000">
            <a:off x="7095240" y="2750760"/>
            <a:ext cx="990720" cy="46692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"/>
          <p:cNvSpPr/>
          <p:nvPr/>
        </p:nvSpPr>
        <p:spPr>
          <a:xfrm flipH="1" rot="5400000">
            <a:off x="7448400" y="2697120"/>
            <a:ext cx="990720" cy="5745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 flipH="1" rot="5400000">
            <a:off x="7890480" y="2739960"/>
            <a:ext cx="1003320" cy="5004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"/>
          <p:cNvSpPr/>
          <p:nvPr/>
        </p:nvSpPr>
        <p:spPr>
          <a:xfrm flipH="1" rot="5400000">
            <a:off x="3053520" y="264240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"/>
          <p:cNvSpPr/>
          <p:nvPr/>
        </p:nvSpPr>
        <p:spPr>
          <a:xfrm flipH="1" rot="5400000">
            <a:off x="3593160" y="264132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"/>
          <p:cNvSpPr/>
          <p:nvPr/>
        </p:nvSpPr>
        <p:spPr>
          <a:xfrm flipH="1" rot="5400000">
            <a:off x="5245920" y="2774160"/>
            <a:ext cx="990720" cy="40464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"/>
          <p:cNvSpPr/>
          <p:nvPr/>
        </p:nvSpPr>
        <p:spPr>
          <a:xfrm flipH="1" rot="5400000">
            <a:off x="4100400" y="2743200"/>
            <a:ext cx="990720" cy="466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"/>
          <p:cNvSpPr/>
          <p:nvPr/>
        </p:nvSpPr>
        <p:spPr>
          <a:xfrm flipH="1" rot="5400000">
            <a:off x="4452120" y="2689920"/>
            <a:ext cx="990720" cy="57312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"/>
          <p:cNvSpPr/>
          <p:nvPr/>
        </p:nvSpPr>
        <p:spPr>
          <a:xfrm flipH="1" rot="5400000">
            <a:off x="48934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"/>
          <p:cNvSpPr/>
          <p:nvPr/>
        </p:nvSpPr>
        <p:spPr>
          <a:xfrm flipH="1" rot="5400000">
            <a:off x="1678680" y="2650320"/>
            <a:ext cx="990720" cy="6681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"/>
          <p:cNvSpPr/>
          <p:nvPr/>
        </p:nvSpPr>
        <p:spPr>
          <a:xfrm flipH="1" rot="5400000">
            <a:off x="2218320" y="2649240"/>
            <a:ext cx="990720" cy="6699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873000" y="2773800"/>
            <a:ext cx="990720" cy="40500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960" y="2479680"/>
            <a:ext cx="46188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"/>
          <p:cNvSpPr/>
          <p:nvPr/>
        </p:nvSpPr>
        <p:spPr>
          <a:xfrm flipH="1" rot="5400000">
            <a:off x="79200" y="2689920"/>
            <a:ext cx="990720" cy="572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 flipH="1" rot="5400000">
            <a:off x="521280" y="2731680"/>
            <a:ext cx="1003320" cy="50148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-3960" y="2438280"/>
            <a:ext cx="914724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3960" y="3201840"/>
            <a:ext cx="91458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17E9-538F-41D8-8157-CD813292D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3600" y="2438280"/>
            <a:ext cx="9147600" cy="1063800"/>
            <a:chOff x="-3600" y="2438280"/>
            <a:chExt cx="9147600" cy="1063800"/>
          </a:xfrm>
        </p:grpSpPr>
        <p:sp>
          <p:nvSpPr>
            <p:cNvPr id="92" name=""/>
            <p:cNvSpPr/>
            <p:nvPr/>
          </p:nvSpPr>
          <p:spPr>
            <a:xfrm flipH="1" rot="5400000">
              <a:off x="4088520" y="-1575720"/>
              <a:ext cx="990720" cy="9120240"/>
            </a:xfrm>
            <a:custGeom>
              <a:avLst/>
              <a:gdLst/>
              <a:ahLst/>
              <a:rect l="l" t="t" r="r" b="b"/>
              <a:pathLst>
                <a:path w="1000" h="720">
                  <a:moveTo>
                    <a:pt x="0" y="0"/>
                  </a:moveTo>
                  <a:lnTo>
                    <a:pt x="0" y="720"/>
                  </a:lnTo>
                  <a:lnTo>
                    <a:pt x="1000" y="720"/>
                  </a:lnTo>
                  <a:lnTo>
                    <a:pt x="10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5400000">
              <a:off x="6049800" y="2649960"/>
              <a:ext cx="990720" cy="6685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5400000">
              <a:off x="6591240" y="2649600"/>
              <a:ext cx="990720" cy="66960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rot="5400000">
              <a:off x="8241480" y="278208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5400000">
              <a:off x="7095240" y="2750760"/>
              <a:ext cx="990720" cy="46692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5400000">
              <a:off x="7448400" y="2697120"/>
              <a:ext cx="990720" cy="5745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5400000">
              <a:off x="7890480" y="2739960"/>
              <a:ext cx="1003320" cy="50040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5400000">
              <a:off x="3053520" y="264240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5400000">
              <a:off x="3593160" y="264132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5245920" y="2774160"/>
              <a:ext cx="990720" cy="40464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rot="5400000">
              <a:off x="4100400" y="2743200"/>
              <a:ext cx="990720" cy="4665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520" y="317"/>
                    <a:pt x="624" y="272"/>
                  </a:cubicBezTo>
                  <a:lnTo>
                    <a:pt x="624" y="0"/>
                  </a:lnTo>
                  <a:cubicBezTo>
                    <a:pt x="240" y="42"/>
                    <a:pt x="130" y="0"/>
                    <a:pt x="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rot="5400000">
              <a:off x="4452120" y="2689920"/>
              <a:ext cx="990720" cy="57312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5400000">
              <a:off x="48934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rot="5400000">
              <a:off x="1678680" y="2650320"/>
              <a:ext cx="990720" cy="6681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432" y="224"/>
                    <a:pt x="520" y="317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rot="5400000">
              <a:off x="2218320" y="2649240"/>
              <a:ext cx="990720" cy="669960"/>
            </a:xfrm>
            <a:custGeom>
              <a:avLst/>
              <a:gdLst/>
              <a:ahLst/>
              <a:rect l="l" t="t" r="r" b="b"/>
              <a:pathLst>
                <a:path w="624" h="317">
                  <a:moveTo>
                    <a:pt x="0" y="0"/>
                  </a:moveTo>
                  <a:lnTo>
                    <a:pt x="0" y="272"/>
                  </a:lnTo>
                  <a:cubicBezTo>
                    <a:pt x="104" y="317"/>
                    <a:pt x="432" y="240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rot="5400000">
              <a:off x="873000" y="2773800"/>
              <a:ext cx="990720" cy="405000"/>
            </a:xfrm>
            <a:custGeom>
              <a:avLst/>
              <a:gdLst/>
              <a:ahLst/>
              <a:rect l="l" t="t" r="r" b="b"/>
              <a:pathLst>
                <a:path w="624" h="370">
                  <a:moveTo>
                    <a:pt x="0" y="53"/>
                  </a:moveTo>
                  <a:lnTo>
                    <a:pt x="0" y="325"/>
                  </a:lnTo>
                  <a:cubicBezTo>
                    <a:pt x="104" y="370"/>
                    <a:pt x="520" y="370"/>
                    <a:pt x="624" y="325"/>
                  </a:cubicBezTo>
                  <a:lnTo>
                    <a:pt x="624" y="53"/>
                  </a:lnTo>
                  <a:cubicBezTo>
                    <a:pt x="584" y="0"/>
                    <a:pt x="488" y="8"/>
                    <a:pt x="384" y="8"/>
                  </a:cubicBezTo>
                  <a:cubicBezTo>
                    <a:pt x="280" y="8"/>
                    <a:pt x="80" y="44"/>
                    <a:pt x="0" y="53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-3960" y="2479680"/>
              <a:ext cx="461880" cy="992160"/>
            </a:xfrm>
            <a:custGeom>
              <a:avLst/>
              <a:gdLst/>
              <a:ahLst/>
              <a:rect l="l" t="t" r="r" b="b"/>
              <a:pathLst>
                <a:path w="291" h="625">
                  <a:moveTo>
                    <a:pt x="0" y="624"/>
                  </a:moveTo>
                  <a:lnTo>
                    <a:pt x="291" y="625"/>
                  </a:lnTo>
                  <a:lnTo>
                    <a:pt x="291" y="6"/>
                  </a:lnTo>
                  <a:lnTo>
                    <a:pt x="0" y="0"/>
                  </a:lnTo>
                  <a:cubicBezTo>
                    <a:pt x="39" y="384"/>
                    <a:pt x="0" y="494"/>
                    <a:pt x="0" y="6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rot="5400000">
              <a:off x="79200" y="2689920"/>
              <a:ext cx="990720" cy="572760"/>
            </a:xfrm>
            <a:custGeom>
              <a:avLst/>
              <a:gdLst/>
              <a:ahLst/>
              <a:rect l="l" t="t" r="r" b="b"/>
              <a:pathLst>
                <a:path w="624" h="272">
                  <a:moveTo>
                    <a:pt x="0" y="0"/>
                  </a:moveTo>
                  <a:cubicBezTo>
                    <a:pt x="0" y="0"/>
                    <a:pt x="0" y="272"/>
                    <a:pt x="0" y="272"/>
                  </a:cubicBezTo>
                  <a:cubicBezTo>
                    <a:pt x="96" y="240"/>
                    <a:pt x="136" y="240"/>
                    <a:pt x="240" y="240"/>
                  </a:cubicBezTo>
                  <a:cubicBezTo>
                    <a:pt x="344" y="240"/>
                    <a:pt x="528" y="272"/>
                    <a:pt x="624" y="272"/>
                  </a:cubicBezTo>
                  <a:lnTo>
                    <a:pt x="6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rot="5400000">
              <a:off x="521280" y="2731680"/>
              <a:ext cx="1003320" cy="501480"/>
            </a:xfrm>
            <a:custGeom>
              <a:avLst/>
              <a:gdLst/>
              <a:ahLst/>
              <a:rect l="l" t="t" r="r" b="b"/>
              <a:pathLst>
                <a:path w="632" h="362">
                  <a:moveTo>
                    <a:pt x="8" y="45"/>
                  </a:moveTo>
                  <a:lnTo>
                    <a:pt x="8" y="317"/>
                  </a:lnTo>
                  <a:cubicBezTo>
                    <a:pt x="48" y="362"/>
                    <a:pt x="144" y="317"/>
                    <a:pt x="248" y="317"/>
                  </a:cubicBezTo>
                  <a:cubicBezTo>
                    <a:pt x="352" y="317"/>
                    <a:pt x="568" y="362"/>
                    <a:pt x="632" y="317"/>
                  </a:cubicBezTo>
                  <a:lnTo>
                    <a:pt x="632" y="45"/>
                  </a:lnTo>
                  <a:cubicBezTo>
                    <a:pt x="544" y="0"/>
                    <a:pt x="208" y="45"/>
                    <a:pt x="104" y="45"/>
                  </a:cubicBezTo>
                  <a:cubicBezTo>
                    <a:pt x="0" y="45"/>
                    <a:pt x="28" y="45"/>
                    <a:pt x="8" y="45"/>
                  </a:cubicBez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Arial Unicode MS"/>
              </a:rPr>
              <a:t>WiMAX Forum</a:t>
            </a:r>
            <a:endParaRPr b="0" lang="en-US" sz="72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a Ska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Organiz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12800" y="2401920"/>
          <a:ext cx="7209000" cy="27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01920"/>
                    <a:ext cx="7209000" cy="27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SO00286_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22860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iss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040"/>
            <a:ext cx="7772400" cy="251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deployment broadband wireless access networks by using a global standard and certifying interoperability of products and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ccess profiles to IEEE 802.16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 known interoperability level inside network and insid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for everyone to particip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IEEE 802.16 standard to achieve glob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use of Broadband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HH00173_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4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 manufactu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ven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j0150058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6002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competitive BWA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pecifying minimum air-interfa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twork operators this means – interoperability between equipment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ipment vendors this means – less product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onent vendors this means – larg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d-users this means – faster and cheaper access connection, because of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j0194812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71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Profile principl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andatory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optional requirement for Basestation and C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can be features that are vendor specific outside mandatory and option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j0245875" descr=""/>
          <p:cNvPicPr/>
          <p:nvPr/>
        </p:nvPicPr>
        <p:blipFill>
          <a:blip r:embed="rId1"/>
          <a:stretch/>
        </p:blipFill>
        <p:spPr>
          <a:xfrm>
            <a:off x="7157880" y="228600"/>
            <a:ext cx="1733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IPR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is to create a separate patent p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l will be based on separate agreements between participating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technical committee is used as a patent scal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j0275036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Forum creation mileston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85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S for 11-66 GHz stabile draft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rocedure for 11-66 GHz end of Apr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frequencies introduced to WiMAX starting after March IEEE 802.16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WiMAX press release during Shorecliff Anaheim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N00775_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Unicode MS"/>
              </a:rPr>
              <a:t>Membership fees</a:t>
            </a:r>
            <a:endParaRPr b="0" lang="en-US" sz="4400" spc="-1" strike="noStrike">
              <a:solidFill>
                <a:srgbClr val="003366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2880" y="185580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5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ing memb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ee $ 200 per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0 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certifi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 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principl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j0232246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828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1:35:23Z</dcterms:created>
  <dc:creator>NOKIA</dc:creator>
  <dc:description/>
  <dc:language>en-US</dc:language>
  <cp:lastModifiedBy>Mika Skarp</cp:lastModifiedBy>
  <dcterms:modified xsi:type="dcterms:W3CDTF">2002-01-29T06:18:39Z</dcterms:modified>
  <cp:revision>42</cp:revision>
  <dc:subject/>
  <dc:title>Forum</dc:title>
</cp:coreProperties>
</file>