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54CBDF-AE94-432F-A97B-E89620338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AC67F-DDC8-4A89-A592-3C183334A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CC630FF-AD23-4770-99EE-D8C0C5153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F153960E-7821-4728-AA57-5611DE854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B0328F2-70E8-4D7A-8787-6D64D17EC2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3BA12C-4D86-4C89-BD48-E7437371C5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D05200-E9C0-46B1-9F8E-4F7A70E5F5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DBC4B1-D9C3-460F-AC11-576E102FDA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444F1DF-69AA-4C71-9EB6-79666B708B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1CB930E7-EE13-45E0-831A-305C2FFD9D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D38DA752-E1E3-4462-A6BA-692C4D684D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BDFD35C9-C3CE-4FB6-B48F-1C837E02CC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F1E498C-2C6F-41AB-87AA-C65B0C6A89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65B8AE62-9E48-4B19-AF24-2578E3E7EA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258A5E50-C7EB-48FD-AB77-17CD6E3433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C1637CC-713C-41D3-8941-DD842C322D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EC672F2E-F657-49CA-9037-2E742DB84D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E9A9A8E3-73E2-4D90-879D-4F71284C48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369E9B5-C833-48E3-9B2B-CB72F2054C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D90265B-AFD8-491B-B2CC-9B388927F0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28830072-750F-4C37-9603-58EED881F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70D4DE19-9E77-4302-9374-A3805E2A6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A4334BF-6BDF-46B8-8679-8BE862DFC6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EC7965F-CB40-4287-868E-C681B9343B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610B70C-9693-49CC-81F4-2D355131F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915B-7F8F-4C9B-BDA3-4C16DB60F9E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3982-AD64-4C46-9FBE-2B45B2F19455}"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434D-F06B-4A8A-B3A4-DE1A88585A9C}" type="datetime3">
              <a:rPr b="0" lang="en-US" sz="2800" spc="-1" strike="noStrike">
                <a:solidFill>
                  <a:srgbClr val="ffffff"/>
                </a:solidFill>
                <a:latin typeface="Arial"/>
              </a:rPr>
              <a:t>July 30,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566F87B-A1C3-4948-BDA4-2A57C16CAB14}"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E62B5E6-F6DA-48F9-B6A4-4EF6648B35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376054C4-D293-4A70-8CAF-21548E8F27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91C91E7-CC33-45FD-A137-38F12FA764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200CA3F-9B06-47CE-A053-0ED6B1DAF9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8128C89-D921-4AB3-88FD-30B9536B0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C6EB4C2-CA1A-42E8-86A5-B5E06DEE47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23EDFA9-8BC4-474B-B348-D34A242D6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B207FDD-892E-4949-B589-B540664484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3D248E7-4756-45E3-B29B-E94E6FDE23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6D565AA-7208-42BB-93AA-83F1A0A85E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094BE670-0061-4BA6-B3E9-BCDDB3FF9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50AD6E3-ECAB-48A0-9BF6-B1A78A54C1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63A178AD-F556-4288-879C-0C8C535EF104}"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202BD56-C540-4D58-86B3-A7B73AAE9D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91C441FB-F6D2-4E01-B0D1-00068AEEEE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ACA117C0-ED2A-4983-9F2B-4AB2F9271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8E03140-8F79-4AC3-9BAE-5364ABF31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D953E7E-B942-4714-96B7-E5BB8BDAF6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9381649-C437-4E3D-A249-0EC263D000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2C25CE1-A969-4A5E-B310-715ABD6F7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