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B5D2F-B769-4A29-86CC-77BB631D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ADF76-F230-4189-A3EF-751BB58D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3175B-EA80-480D-9E45-041D1423F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3271F-1319-445B-BABD-E373EF3D6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F764-421D-42BA-88B4-F4CFEB7ED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2B2F-7513-4889-99F3-9F04FC9C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2405-FDEF-4FB8-AA42-4B113F54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B004-8FBB-4B12-B041-290CFBFF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59A9-9FC9-4F63-BF71-AE206827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865E-CFA7-4A5A-B106-708FE518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648D-5CDB-4FF3-BCB2-8599DB8B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E96D6-5CAE-4E5B-A0A7-64995013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5723-B310-4F92-A901-B901251E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3375-DB51-4033-9116-72DF6872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92C7-1A34-49BF-902E-C9419EE8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F930-9A60-436B-A4EE-DB771B8DD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1FA2-6957-40B3-8816-EF684C38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E6900-291C-4830-90AC-2D49B964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EE73F-36C5-480A-BFCB-9BC3F596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D9A53-B494-4D4F-B258-F45FAE11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7AFDE-5E4F-44FA-899B-5A611FEE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A7B20-07DA-41FB-A829-5BF388D6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98E46-984A-4CBE-9985-C95833A0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F1AD8-61E9-4AE1-89CE-682270E5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2384-95D2-4304-81C5-05F19A6CA0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319C-C67A-488D-92C1-207D1EA0A8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apertonet.com/index.htm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hyperlink" Target="http://www.axxcelera.com/index.htm" TargetMode="External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Unlicensed Multipoint Operation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I Band: Reliability, Interference and Economic Vi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62120" y="5562720"/>
            <a:ext cx="3809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bert A. Campb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campbell@nscg.b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urban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as where infrastructure is limi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side the DSL areas and access to copper or fiber is limi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business centers that need connectivity ab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of the “underserved” area cl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ill, vertical services would increase the penetration into market (VoIP, VPN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to rooftops and/or towers at lower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ral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of wireless equipment doesn’t require high-density of population, but minimums needed to satisfy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Town USA” needs bandwid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argue it is needed here more because of a lack of access to metro market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ge of equipment can present coverage problems for UNII deploy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pite this, success stories exist in “one-stoplight” tow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CC report:  Broadband = &gt;200Kb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ely 9.6 million high-speed subscribers as of June 30,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50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crease since the FCC released it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econd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6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crease during the first half of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8 Million (of 9.6 Million) subscribers are residential or small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4920" y="647712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www.fcc.gov/Bureaus/Common_Carrier/News_Releases/2002/nrcc020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news for fixed wire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-speed lines in service over satellite or fixed wireless technologies increased at th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stest r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3%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uring the first half of 2001, to nearly 200,000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04920" y="647712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www.fcc.gov/Bureaus/Common_Carrier/News_Releases/2002/nrcc020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I Band equipment can and does provide more than adequate service and transport of advanced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trum is not that crowded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size is still small, penetration rates growing rapid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ntastic opportunities for those who plan and execute 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l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it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time 99.999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5 minutes downtime each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ing in spite of weather, environmental or other characteristic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does it just simply wor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1600200"/>
            <a:ext cx="4038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3"/>
          <a:stretch/>
        </p:blipFill>
        <p:spPr>
          <a:xfrm>
            <a:off x="4572000" y="259092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99.999%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lates roughly to 5 minutes 15 seconds of downtime per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’s 6 SECOND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have a single outage of 2 hours, you will need 100% uptime for the next 23 years to achieve 99.99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chievable? Mayb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Idea?  Absolut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:  This is an ideal goal that is rarely met, but striving to meet it provides great benef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ot of issues can be out of your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UNII and the Environ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I band, outdoors, frequency range 5.25GHz-5.35GHz and 5.725GHz-5.825G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w 6GHz water and other weather phenomenon are not a conc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n FCC regulations limit an effective transmission range to approximately 7 miles, curvature of the earth is generally not a conc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ning is one of our biggest concerns along with improperly terminated cables (which can be affected by weath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tom Line: The Environment can be mana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fere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F Interference or Electromagnetic Interference (EM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ge impact on re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I Band – 200MHz of spectru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M 2.4GHz – 83.5 MHz of spect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equipment available has sufficient channel plans to allow for multiple operators in the same RF space – the channe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ment vendors are beginning to build interference mitigation into their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know what you’re sending and have a good idea on what you’re to receive, then block anything 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fere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02.11a – new kid on the b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target:  Indoor Wireless LAN, could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indoor-only frequencies (5.15GHz – 5.25GHz) along with 5.25GHZ-5.35G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 the network, survey the RF landscape, document your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al recourse for malicious interference, but no recourse for other inter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 to the equipment’s ability to reject interference as the landscape crow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4"/>
          <a:stretch/>
        </p:blipFill>
        <p:spPr>
          <a:xfrm>
            <a:off x="7238880" y="838080"/>
            <a:ext cx="144792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oes it work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viously, YES!  You’re here aren’t you?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ipping equipment with deployments and real world feedback have shown that equipment vendors are putting out quality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" descr="Back to hom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24480" y="2743200"/>
            <a:ext cx="1295640" cy="46656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5"/>
          <a:stretch/>
        </p:blipFill>
        <p:spPr>
          <a:xfrm>
            <a:off x="4952880" y="4495680"/>
            <a:ext cx="1473480" cy="5270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19920" y="3581280"/>
            <a:ext cx="1904760" cy="3333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8"/>
          <a:stretch/>
        </p:blipFill>
        <p:spPr>
          <a:xfrm>
            <a:off x="7010280" y="4495680"/>
            <a:ext cx="1863720" cy="4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conomic 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able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ban:  Augmenting Fiber as it isn’t in every bui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urban: Where is the business?  Underserved?  Extending the Urban reach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ral:  Difficult due to ranges of equipment, but more cost effective in low density markets than anything e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now what you’re getting int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ban Mar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umbent Fiber and copper-based carri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umbent DSL, Cable Modem and low-cost point-to-point DS1/DS3 conne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cost of operations related to rooftops/tower leasing – permitting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nering is one ans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 of vertical services is key to maintaining value pro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5029200" y="26668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9T00:59:03Z</dcterms:created>
  <dc:creator>Robert A. Campbell</dc:creator>
  <dc:description/>
  <dc:language>en-US</dc:language>
  <cp:lastModifiedBy>Robert A. Campbell</cp:lastModifiedBy>
  <dcterms:modified xsi:type="dcterms:W3CDTF">2002-02-10T17:30:39Z</dcterms:modified>
  <cp:revision>14</cp:revision>
  <dc:subject/>
  <dc:title>Unlicensed Multipoint Oper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