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232A-EB9B-43CF-A0CD-4E0992DD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8AF4-9548-4C8B-AC5B-0E20F748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002A-E305-4624-B28F-9F735D93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604E-94D7-460C-BD3C-8CF34607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E399-5A64-4F3B-9530-B7687EAB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B585-A2A7-40C1-97D7-D298160F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465E-3C69-4223-B1B9-9C1CCBA5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7DFF-D1B4-43D3-BD8F-5380DAD9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1F61-111C-46D7-934A-61EEDBC8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0430-BB06-4815-92B3-D652909F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F475-E190-4463-902A-F112E85A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46CF-6266-4FA4-8BAE-36B4DF13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23D4-C250-4581-972F-90921173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8133-9C2D-47CD-9546-59B8C407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AE86-8543-4E85-835A-BBB0A0DB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47ED-2FAC-4C3F-82B6-6991B745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DF33-7A28-44EE-AADE-48964F93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5873-7A35-4F70-9DDA-32672547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5879-0111-455C-890F-E930A580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B347-6138-4DE4-B978-604C2026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56D8-E777-4CFE-B4D2-03E445A3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D60B-AC4D-44A5-9636-0FD60E74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7DCE-F9DF-4630-87EB-0D3BA889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1D6D-14B8-4D81-BB29-1FC3BC9C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ACFA-B030-4BC5-AD5F-C164BD680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3a2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d5cf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d5c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02A9-419A-4D98-99C7-1A4755165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57564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523880"/>
            <a:ext cx="7554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0165"/>
                </a:solidFill>
                <a:latin typeface="Arial"/>
              </a:rPr>
              <a:t>Ricochet –</a:t>
            </a:r>
            <a:r>
              <a:rPr b="0" lang="en-US" sz="4000" spc="-1" strike="noStrike">
                <a:solidFill>
                  <a:srgbClr val="0f016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0165"/>
                </a:solidFill>
                <a:latin typeface="Arial"/>
              </a:rPr>
              <a:t>Autopsy of a Wireless Carr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95680" y="5791320"/>
            <a:ext cx="4648320" cy="1066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3276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id It Happen &amp; How to Avoid the Same Resul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5029200"/>
          <a:ext cx="28195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29200"/>
                    <a:ext cx="2819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of the Road to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Be Paranoid, but Understand Competitive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stand the Difference between Evolutionary &amp; Disruptive Technolo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Define &amp; Deploy a Compelling Price Valu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 Segment - Mobile Subscriber vs SME &amp; DSL Consumer Market Seg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Build Distribution from the Bottom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CI vs Small to Medium Regional/Local ISPs, SIs &amp; NSPs/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Don’t Scale Deployment Without: Tested Operations &amp; Distribu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Burn Rates &amp; Low Subscriber Ad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The Availability of Capital is not Endu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ize Burn Rates until Growth Takes O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438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Focus On One Thing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reless Carrier vs Technology Develop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) Hire the Best Employees You Can Afford &amp; List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alter the laws of Phys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rint – 40+ Markets - $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cochet – 40+ Markets 1.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) Watch Out for Economic Cy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Change Them &amp; They Can Hurt You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) Be agile – If Its Not Working – CHANGE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evaluate your Business Model Early &amp; Ofte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Willing to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) Go Back to Rule # 4 – LIVE BY IT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5909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21:10:11Z</dcterms:created>
  <dc:creator>IT Support</dc:creator>
  <dc:description/>
  <dc:language>en-US</dc:language>
  <cp:lastModifiedBy>Lee Gopadze</cp:lastModifiedBy>
  <dcterms:modified xsi:type="dcterms:W3CDTF">2002-02-08T16:09:59Z</dcterms:modified>
  <cp:revision>336</cp:revision>
  <dc:subject/>
  <dc:title>PowerPoint Presentation</dc:title>
</cp:coreProperties>
</file>