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8129588" cy="6099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87964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1760" y="141444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0752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87964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1760" y="3361320"/>
            <a:ext cx="235404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874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45840" y="196920"/>
            <a:ext cx="677844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54400" y="336132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54400" y="1414440"/>
            <a:ext cx="3567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07520" y="3361320"/>
            <a:ext cx="7311960" cy="1777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indent="0">
              <a:lnSpc>
                <a:spcPct val="95000"/>
              </a:lnSpc>
              <a:spcBef>
                <a:spcPts val="1874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 fontScale="81000"/>
          </a:bodyPr>
          <a:p>
            <a:pPr marL="208080" indent="-20808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0752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61560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8150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02348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»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486560" y="5889600"/>
            <a:ext cx="61020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9B90F3EA-EA08-4BDF-A456-D504DC44F65B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984480" y="2638440"/>
            <a:ext cx="160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12600" y="0"/>
            <a:ext cx="619200" cy="866880"/>
            <a:chOff x="-12600" y="0"/>
            <a:chExt cx="619200" cy="866880"/>
          </a:xfrm>
        </p:grpSpPr>
        <p:sp>
          <p:nvSpPr>
            <p:cNvPr id="5" name=""/>
            <p:cNvSpPr/>
            <p:nvPr/>
          </p:nvSpPr>
          <p:spPr>
            <a:xfrm>
              <a:off x="6480" y="6480"/>
              <a:ext cx="581040" cy="626760"/>
            </a:xfrm>
            <a:prstGeom prst="rect">
              <a:avLst/>
            </a:prstGeom>
            <a:solidFill>
              <a:srgbClr val="008aa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80" y="420840"/>
              <a:ext cx="581040" cy="438120"/>
            </a:xfrm>
            <a:prstGeom prst="rect">
              <a:avLst/>
            </a:prstGeom>
            <a:solidFill>
              <a:srgbClr val="cf0e3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-12600" y="41436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5440" cy="866880"/>
            </a:xfrm>
            <a:custGeom>
              <a:avLst/>
              <a:gdLst/>
              <a:ahLst/>
              <a:rect l="l" t="t" r="r" b="b"/>
              <a:pathLst>
                <a:path w="375" h="546">
                  <a:moveTo>
                    <a:pt x="0" y="545"/>
                  </a:moveTo>
                  <a:lnTo>
                    <a:pt x="374" y="545"/>
                  </a:lnTo>
                  <a:lnTo>
                    <a:pt x="374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6691320" y="5251320"/>
            <a:ext cx="1209600" cy="6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457200" y="5334120"/>
          <a:ext cx="129528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5334120"/>
                    <a:ext cx="129528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352680"/>
            <a:ext cx="7088400" cy="9907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ign and Implementation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066680"/>
            <a:ext cx="81295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rial"/>
              </a:rPr>
              <a:t>Indonesia Internet Exchange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4762800" cy="1285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533160"/>
            <a:ext cx="7464600" cy="373356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500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ekly Graph ( 30 Minute averag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iix-s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188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cb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52480" y="3733920"/>
            <a:ext cx="4762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25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35268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5520" y="411480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352680" y="304812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52680" y="2895480"/>
            <a:ext cx="1752840" cy="99072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3392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1905120"/>
            <a:ext cx="0" cy="5331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2438280"/>
            <a:ext cx="0" cy="5335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438280"/>
            <a:ext cx="16002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352680" y="2438280"/>
            <a:ext cx="0" cy="60984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2438280"/>
            <a:ext cx="1371600" cy="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2057400"/>
            <a:ext cx="2209680" cy="9144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85800" y="1752480"/>
            <a:ext cx="609480" cy="3603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6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71960" y="1447920"/>
            <a:ext cx="98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bn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4720" y="1523880"/>
            <a:ext cx="9525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29760" y="1447920"/>
            <a:ext cx="1031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o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144792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ific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38520" y="39625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29040" y="3733920"/>
            <a:ext cx="769680" cy="450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3048120" y="44956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0"/>
          <a:stretch/>
        </p:blipFill>
        <p:spPr>
          <a:xfrm>
            <a:off x="4800600" y="449568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723560" y="1523880"/>
            <a:ext cx="504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1981080"/>
            <a:ext cx="0" cy="45720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4800600"/>
            <a:ext cx="134460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kom.net.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800600"/>
            <a:ext cx="83844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977840" y="289548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7784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59480" y="37339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59480" y="2819520"/>
            <a:ext cx="1100520" cy="5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m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sco 72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1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/5/97 First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/7/97 IIX white pap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/9/97 IIX is up with 6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/9/97 IIX-Ind is up with 1 peering memb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6/9/97 IIX Diagnostic home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X Looking g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RTG interface stat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/10/97 BGP peer up wit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11/97 ITB join IIX through rad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/12/97 128 Kbps link GCC&lt;-&gt; SMG2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/2/98 Using RtConfig ( RAToolSet ) to configure I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lsa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acific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ninet.net.id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.net.id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ink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erce.net.id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umi.net.id 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ptek.net.id     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im.net.id  iptek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140000" y="1414440"/>
            <a:ext cx="39891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entrin.net.id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sion.net.id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b.net.id 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ine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sprint.net.id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foasia.net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abi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ot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14440"/>
            <a:ext cx="375912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atelindo INP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CI (cont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itra.net.id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r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bit.net.id 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lga.net.id      Satelindo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edia.net.id 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pura.net.id    unreach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a Satelin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114800" y="1414440"/>
            <a:ext cx="4014720" cy="391968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 anchorCtr="1">
            <a:normAutofit fontScale="97000"/>
          </a:bodyPr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       Sprint Internatio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kadin.net.id     Telkom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bn.net.id          MCI      AG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ad.net.id          abone.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bm.net.id          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net.net.id         UUn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ima.net.id        AT &amp; T EasyLink Services Asia-Pacifi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lkom.Net.i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dosat IN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tura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g.net.id   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ccess.net.id   indo.net.i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6782040" cy="160020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t">
            <a:noAutofit/>
          </a:bodyPr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873080" y="2766960"/>
            <a:ext cx="4381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4 ISPs Interconnected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ny S. Hariman tony@cbn.net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M, Network Operation CBN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ry Greene bgreene@cisco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ior Consultant, Corporate Consulting Engineer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apjii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apjii.or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fo on netflow perl scrip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7603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tsh.or.id/netflow.htm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ixed Custome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restricted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with plenty of cap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os who all want to be the IX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llow for a variety of peer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 for peer without AS num (Route Reflector and switched ethern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lly Meshed Pee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ed using back to back DCE-DTE V3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3 Connections on the three Telc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H="1">
            <a:off x="4876920" y="3886200"/>
            <a:ext cx="304560" cy="8380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81480" y="3962520"/>
            <a:ext cx="838440" cy="76176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1981080"/>
            <a:ext cx="15264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77880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preliminary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5105520" y="2971800"/>
            <a:ext cx="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971800"/>
            <a:ext cx="1905120" cy="83808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352320" y="1905120"/>
            <a:ext cx="38124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905120"/>
            <a:ext cx="533520" cy="106668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05520" y="1981080"/>
            <a:ext cx="761760" cy="990720"/>
          </a:xfrm>
          <a:prstGeom prst="line">
            <a:avLst/>
          </a:prstGeom>
          <a:ln w="1260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3048120"/>
            <a:ext cx="14479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14600" y="175248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505320" y="1752480"/>
            <a:ext cx="587160" cy="347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97180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724280" y="28195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5638680" y="18288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9840" y="1447920"/>
            <a:ext cx="4359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5320" y="1447920"/>
            <a:ext cx="5331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4781520" y="3733920"/>
            <a:ext cx="770040" cy="450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5638680" y="4572000"/>
            <a:ext cx="587520" cy="347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4648320" y="1828800"/>
            <a:ext cx="587160" cy="347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8560" y="2895480"/>
            <a:ext cx="7927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gc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59840" y="3733920"/>
            <a:ext cx="74376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819520"/>
            <a:ext cx="747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IX-i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52388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9"/>
          <a:stretch/>
        </p:blipFill>
        <p:spPr>
          <a:xfrm>
            <a:off x="4572000" y="4572000"/>
            <a:ext cx="587520" cy="3477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4876920"/>
            <a:ext cx="5335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31240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20040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4038480"/>
            <a:ext cx="463320" cy="3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1520"/>
                <a:tab algn="l" pos="2543040"/>
                <a:tab algn="l" pos="3814920"/>
                <a:tab algn="l" pos="5086440"/>
                <a:tab algn="l" pos="6357960"/>
                <a:tab algn="l" pos="7629480"/>
                <a:tab algn="l" pos="8901000"/>
                <a:tab algn="l" pos="10172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20480" y="144000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preliminary desig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cf0e30"/>
                </a:solidFill>
                <a:latin typeface="Arial"/>
              </a:rPr>
              <a:t>IIX working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today’s desig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X hist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749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bn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ix-gcc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iix-sat link 64 Kbp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one 7000 and one 251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5840" y="196920"/>
            <a:ext cx="6778440" cy="101592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IX working desig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7520" y="1414440"/>
            <a:ext cx="7311960" cy="3727440"/>
          </a:xfrm>
          <a:prstGeom prst="rect">
            <a:avLst/>
          </a:prstGeom>
          <a:noFill/>
          <a:ln w="0">
            <a:noFill/>
          </a:ln>
        </p:spPr>
        <p:txBody>
          <a:bodyPr lIns="73080" rIns="73080" tIns="36360" bIns="36360" anchor="ctr" anchorCtr="1">
            <a:normAutofit/>
          </a:bodyPr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urrently 8 peers to IIX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ether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use seria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 link is saturate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95000"/>
              </a:lnSpc>
              <a:spcBef>
                <a:spcPts val="1874"/>
              </a:spcBef>
              <a:buClr>
                <a:srgbClr val="cf0e3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oute announcement enforce by radb databa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2T22:41:52Z</dcterms:created>
  <dc:creator>David Powell</dc:creator>
  <dc:description/>
  <dc:language>en-US</dc:language>
  <cp:lastModifiedBy>Barry Raveendran Greene</cp:lastModifiedBy>
  <cp:lastPrinted>1998-02-08T14:50:43Z</cp:lastPrinted>
  <dcterms:modified xsi:type="dcterms:W3CDTF">1998-02-20T03:12:12Z</dcterms:modified>
  <cp:revision>26</cp:revision>
  <dc:subject/>
  <dc:title>NetFlow (TM) Technology and Applications</dc:title>
</cp:coreProperties>
</file>