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0CA-BADC-42BA-8FED-E87B375E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E8E-FCDB-4ECF-AFC2-E97BB9CE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CE7-02B9-4C47-B10D-EBD9F9FF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DAD-FAA1-4A3E-AEDB-F2BC94E1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85EC-D386-4312-A631-1E6B9882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2150-2C10-41F4-A8FE-0445A6A1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0F73-DB80-4602-9080-A981C8CA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292D-B460-4D7C-8E73-A6EB4D85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9CB3-9B8A-429E-8E71-E258AD87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AFBD-1238-47AB-BF43-937DE687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C9EA-4A65-4CDB-9F8D-BA93B86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168-5F44-4279-ADA9-8EB1A280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3FE3-FBB0-49A4-8A72-CF6EB23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31B0-A182-46C0-85E2-F2BD87B0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5A3F-C18D-4404-9E41-3637EB15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F63B-77D0-475F-BF49-5162A2CA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BC36-B711-4B3C-88A8-C1820BA7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F65-19EB-48C1-A529-B0FD5E70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DDF-9ADF-4D05-901A-BDE092D2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066-622A-4A6D-84BE-E853FDB1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685-C12A-42F9-8AE9-7C314461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F02-ADFD-4364-A7AC-14A4B4D4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B92-8741-4E86-87A2-C38F3AE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5DE-DB21-471E-9EA9-8091DFCE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AC09-F1F2-461A-8017-5ED2A616636C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CF65-407E-4961-BA6E-2B98DE22770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Kontribusi Perpustakaan Pusat ITB:</a:t>
            </a: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sep, strategi, teknologi, dan jaringan Digital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MRG, AI3, CN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mail Fahmi - Ismail@itb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F4C6-C9FE-4E32-8E5E-71BDD02054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WAIS-I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566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0FB-DBC5-4BB5-91E8-6B3BD794AC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 server di IT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ggo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1 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40 buah database CDS/ISIS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an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ll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33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19720" cy="39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097-76BE-4F08-9AAE-46F60B8D5B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nline shopping &amp; or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971800" cy="207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55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243864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90920" cy="19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27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54340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52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924280" cy="24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2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52280" y="4114800"/>
            <a:ext cx="284796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81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276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F4D-098B-4DD3-AC97-2875D9A3E1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Ganesha Digital Librar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jadi knowledgebase dari IC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gan mengelola tacit &amp; explicit knowledge civitas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ggunakan TI yang tepat dan terjangkau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membuka akses bagi masyarakat secara lu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http://digital.lib.itb.ac.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26B-8305-4B09-AE89-FE9E32FD7E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plic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urse mate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FE9-A6C3-49EA-A8C1-D4EA28C467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Tac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iling list archiv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11A-0FD5-4DB5-84C9-B521E212AB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Captu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555bad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5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869-4F1A-4A74-AD92-B5B8098DA4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Access &amp; Dissemin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9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0" name=""/>
          <p:cNvCxnSpPr>
            <a:stCxn id="198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8" idx="4"/>
            <a:endCxn id="203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6AF-CD9F-4AA7-A308-4A98CDBFD4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Pres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280-3891-4B2D-BB2B-ABBA86EC7C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mpus Network Top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EF1-EA1A-40C4-A482-79BAC050ED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ilas tentang Knowledge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KM di PP I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ISNetwork, One Stop Shop for Libraries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nesha Digital Libr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ringan Digital Library: Nasional &amp; Interna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Free-Software: GNU-Li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F54-63FA-4574-8FDB-4B4384C9D7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onfigurasi Serv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at in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tium 1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4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 GB H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IS-ISIS search eng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l ser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ail + Ezml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8840" y="182880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00 GB HD (hingga T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A18-C799-4DAD-AE94-D2E98D1EA0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aringan Digital Library Nasion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yek pembuatan sistem jaringan digital library nasiona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husus mengelola laporan penelitian, thesis, dan disertas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4360" y="141120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858-96AD-4343-865C-B464F9509E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kus komunitas tar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asiswa dan Peneli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omunitas yang kreatif dan inovatif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sen knowled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nowledge manager, organis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digma library sbg information ce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luang linka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147-BE6B-406E-838D-BCF48D64C4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hasil penelitian terbuka dan mudah diak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blikasi hasil penelitian semakin cepat, mudah, dan mura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ualitas lulusan dan hasil penelitiannya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anfaatkan hasil penelitian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ksternalisasi tacit knowled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age dengan dunia bisnis, industri, dan masyara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B4C-0B30-428A-8B13-60F1D1509D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laksan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MRG &amp; CN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d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N ASIA/IDRC Singapo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yasan Litbang Telekomunikasi dan Informatik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N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n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ian Internet Interconnection Initiatives (AI3)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D16-D7B9-46D6-A7BB-794DF4836D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tner (pioneer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A58-89B9-4D5F-9E82-9038F447AE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28600"/>
          <a:ext cx="82296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2296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4E3-1502-46BA-8264-BF0175AB97C4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put 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 server Digital Library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ndard: metadata, naming, submission method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 pengelola di tiap part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834-3D5A-410B-8EC7-D56A054C33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Jaringan Digital Library Internasiona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tukaran knowledgebase (laporan penelitian, tesis, dan disertas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ner di luar negeri (confirmed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Groningen, Belan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Aalborg, Denm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B sebagai hub/gateway untuk Indones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imasi tahun 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8F6-BD39-431B-AE05-C8FEB0B72C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5AF-BF55-4374-9AC1-8E05B0E988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Knowledge Management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555b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E65-C1E7-4096-A3C5-0596B25531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uang jaringan Internas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5FA-4A42-4B56-8416-A4C17947A1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a Self-Sustainab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ding hanya diperlukan diaw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anjutnya pola self-sustainabl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akses ke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ualan CD-ROM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base sebagai modal barter dengan partner internasio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215-F939-4255-8ABB-14EC24A49F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u Plagiatis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iap orang akan dengan mudah mengetahui hasil / laporan riset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setiap plagiat akan mudah dilacak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keinginan berbuat plagiat semakin keci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A8C-3BAB-47D6-B3E0-AC28804DCE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GNU-Lib, Free-Software Library Auto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-Softwar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erarti “freedom”, “bebas”, “liberty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kan “gratis”, “harga 0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rary Automa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kflow aktifitas perpustakaan dengan bantuan T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ncarian, peminjaman, pengembalian, denda, pemesanan, perpanjangan, pengadaan buku, keanggotaan, dl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-Lib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ject pembuatan Free-Software Library Auto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leh KM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gnu-head-sm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362320" cy="2233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939000" y="5410080"/>
            <a:ext cx="120636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hun i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511-1C10-42AE-9111-A0EDB42ACC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gsi library automation pada umum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b akses: online search, pesan, perpanjangan, 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ail aler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code enab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8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9DA-FF41-4F56-AA02-096C8C3B7B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entium 100 M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2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 GB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or 48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6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o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Mod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et connection to ISP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5F4-F39B-43B4-9096-DE0CEBB0AE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perating system: Linux or Unix 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atabase server: 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cripting language: Per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eb server: 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il server: Qm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OS with TCP/IP applic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or barcode printing, using Windows 95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83B-6486-4A72-B267-2DEC179B2D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4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8D6-F1C1-4239-A7F7-8599A22871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 K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432-F8AD-4751-8AB3-EA80DF8CE6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27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744e1d"/>
                </a:gs>
                <a:gs pos="50000">
                  <a:srgbClr val="fcab40"/>
                </a:gs>
                <a:gs pos="100000">
                  <a:srgbClr val="744e1d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ikator Keberhasi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4D8-9BDE-4462-AE98-C1BF252B9C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unci suk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daya “knowledge-friend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juan dan Bahasa yang jel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transfer dengan berbagai ja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kungan senior manaje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CCA-7795-4C48-ADBC-BD338EE511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roject KM di PP ITB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uju masyarakat berbasis ilmu pengetahua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lalui pengelolaan modal intelektual secara efektif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ggunakan teknologi informasi yang tepat dan terjangka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C99-FE7E-4501-A6B0-A585AAD57E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rateg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/Open-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bangun tool DL yang  “free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gelola dan membuka akses ke IC I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re teknologi DL dan membangun jaringan 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si komunitas “knowledge-shar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708-D8C2-4BE8-AFD1-1614929749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, One Stop Sho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81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34320" cy="506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70240" y="2133720"/>
            <a:ext cx="3292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http://isisnetwork.lib.itb.ac.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2B2-055C-464D-82A1-D2D18210BF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8:51:05Z</dcterms:created>
  <dc:creator>Ismail Fahmi</dc:creator>
  <dc:description/>
  <dc:language>en-US</dc:language>
  <cp:lastModifiedBy>Ismail Fahmi</cp:lastModifiedBy>
  <dcterms:modified xsi:type="dcterms:W3CDTF">2000-06-30T01:13:32Z</dcterms:modified>
  <cp:revision>39</cp:revision>
  <dc:subject/>
  <dc:title>Leveraging Intellectual Capital Assets within Research &amp; Education Institutions</dc:title>
</cp:coreProperties>
</file>