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15F-5758-4747-BCD4-DF7B801E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8A71-9D4D-42A9-8BC7-C08020C5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D65-97B2-4A43-A6CC-D08E915A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C74-9E4A-46FE-9EB9-F8E49C77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3073-FE26-46CF-BF67-C6387CD9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DE88-6BC1-4982-89BF-557D8388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FF6E-218C-4F91-B47C-D425951C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822B-F136-48E9-A788-4FA49EDD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27EC-8AA0-47BA-B646-19635503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E5C3-71C8-46C0-87C9-D2A9A857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67EE-3A9F-4357-A5B6-138262DC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7E1-8463-48F8-85D5-B36695ED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5EBF-B8B6-460E-A93F-697E8F95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F669-B439-47DC-A27F-F02E3078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A8DD-501B-42F4-8E71-9ED1BF84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639D-612E-481B-AC33-BE6AFC09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F1ED-5ADB-4B7E-AFB6-1A9A6010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9D9-D4CA-40F4-B1DC-6B698B71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1A2-2CBE-4B9A-8344-BBD2CBF3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401-8BF2-47EE-A251-6603F667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7E2-B2D0-481A-B46B-E96F862A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850-C6AC-4B94-8368-EB8C5126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CD5-EEA3-4019-A497-0198162B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E35-BE06-47BA-A3B1-57010AD8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2D5C-7C72-422B-8363-6FAFBFFD1052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0E1D-2437-46FE-9234-A10981EF292C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image" Target="../media/image7.wmf"/><Relationship Id="rId3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hyperlink" Target="http://gdlhub.indonesiadln.org/" TargetMode="External"/><Relationship Id="rId3" Type="http://schemas.openxmlformats.org/officeDocument/2006/relationships/hyperlink" Target="http://gdl.itb.ac.id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../AWeb/idln/launching/opening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donesiaDLN &amp; IsisOnline: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aringan Perpustakaan Digital dan Katalog Onl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eraksi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vidu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e01460_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1225800" cy="1524240"/>
          </a:xfrm>
          <a:prstGeom prst="rect">
            <a:avLst/>
          </a:prstGeom>
          <a:ln w="0">
            <a:noFill/>
          </a:ln>
        </p:spPr>
      </p:pic>
      <p:pic>
        <p:nvPicPr>
          <p:cNvPr id="122" name="bd06662_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4680" y="46483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2920" y="26668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s, se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0640" y="4495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a,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352680"/>
            <a:ext cx="3429000" cy="228600"/>
          </a:xfrm>
          <a:prstGeom prst="rightArrow">
            <a:avLst>
              <a:gd name="adj1" fmla="val 50000"/>
              <a:gd name="adj2" fmla="val 3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191120"/>
            <a:ext cx="3353040" cy="304560"/>
          </a:xfrm>
          <a:prstGeom prst="leftArrow">
            <a:avLst>
              <a:gd name="adj1" fmla="val 50000"/>
              <a:gd name="adj2" fmla="val 27523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1680" y="4724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0520" y="27828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55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0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3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89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1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3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96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0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2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41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56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72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78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82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83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93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04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05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15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16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26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27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37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38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48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49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52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55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61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62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72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73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83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84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94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7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18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2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48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49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82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83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84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86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87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8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02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5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9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3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5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7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9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2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1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5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26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29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1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33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37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43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48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5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78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91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07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09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1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13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5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17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18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30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34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3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9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51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54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55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99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1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3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1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4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46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50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59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63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65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7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69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70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80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81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91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95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 Digital Library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1066680" y="2590920"/>
            <a:ext cx="17528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b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62120" y="3886200"/>
            <a:ext cx="19810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5257800"/>
            <a:ext cx="22096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mah Sa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5334120"/>
            <a:ext cx="2209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33920" y="3429000"/>
            <a:ext cx="236196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ealth 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1828800"/>
            <a:ext cx="2362320" cy="9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19520" y="3200400"/>
            <a:ext cx="83808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819520" y="3962160"/>
            <a:ext cx="8380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352680" y="4343400"/>
            <a:ext cx="533520" cy="838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028840" y="4419720"/>
            <a:ext cx="152280" cy="76176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562720" y="2819520"/>
            <a:ext cx="53316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58000" y="4114800"/>
            <a:ext cx="2057400" cy="7621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72200" y="4114800"/>
            <a:ext cx="6094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315200" y="2971800"/>
            <a:ext cx="228600" cy="99072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nfaatan Koleksi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2819520"/>
            <a:ext cx="198144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bstr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kum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udio,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5257800" y="213372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1337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6" name="en00500_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998280" cy="942840"/>
          </a:xfrm>
          <a:prstGeom prst="rect">
            <a:avLst/>
          </a:prstGeom>
          <a:ln w="0">
            <a:noFill/>
          </a:ln>
        </p:spPr>
      </p:pic>
      <p:pic>
        <p:nvPicPr>
          <p:cNvPr id="927" name="bs00559_" descr=""/>
          <p:cNvPicPr/>
          <p:nvPr/>
        </p:nvPicPr>
        <p:blipFill>
          <a:blip r:embed="rId4"/>
          <a:stretch/>
        </p:blipFill>
        <p:spPr>
          <a:xfrm>
            <a:off x="5105520" y="4572000"/>
            <a:ext cx="1077840" cy="87012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6250320" y="213372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253560" y="3429000"/>
            <a:ext cx="26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254280" y="464832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ar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10800" y="56023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666880" y="25146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666880" y="3809880"/>
            <a:ext cx="236232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666880" y="39618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bagi dunia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base full content ttg keseha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nelitian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bagi masyarakat l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ing status kesehatan: past and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ksi masa dep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2668680" y="2286000"/>
            <a:ext cx="361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IsisOnli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vs Katalog Online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isOnline: Katalog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2133720"/>
            <a:ext cx="198108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atalo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u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05320" y="3352680"/>
            <a:ext cx="1752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is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2590920"/>
            <a:ext cx="1905120" cy="190476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bs00554_" descr=""/>
          <p:cNvPicPr/>
          <p:nvPr/>
        </p:nvPicPr>
        <p:blipFill>
          <a:blip r:embed="rId1"/>
          <a:stretch/>
        </p:blipFill>
        <p:spPr>
          <a:xfrm>
            <a:off x="914400" y="5029200"/>
            <a:ext cx="1301760" cy="113652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 flipV="1">
            <a:off x="1447920" y="4038120"/>
            <a:ext cx="0" cy="838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66880" y="3809880"/>
            <a:ext cx="6858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410080" y="3809880"/>
            <a:ext cx="9144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e03166_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100160" cy="11602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133720" y="4470480"/>
            <a:ext cx="4647960" cy="1092240"/>
          </a:xfrm>
          <a:custGeom>
            <a:avLst/>
            <a:gdLst/>
            <a:ahLst/>
            <a:rect l="l" t="t" r="r" b="b"/>
            <a:pathLst>
              <a:path w="2928" h="688">
                <a:moveTo>
                  <a:pt x="0" y="688"/>
                </a:moveTo>
                <a:cubicBezTo>
                  <a:pt x="8" y="544"/>
                  <a:pt x="16" y="400"/>
                  <a:pt x="96" y="304"/>
                </a:cubicBezTo>
                <a:cubicBezTo>
                  <a:pt x="176" y="208"/>
                  <a:pt x="168" y="160"/>
                  <a:pt x="480" y="112"/>
                </a:cubicBezTo>
                <a:cubicBezTo>
                  <a:pt x="792" y="64"/>
                  <a:pt x="1560" y="32"/>
                  <a:pt x="1968" y="16"/>
                </a:cubicBezTo>
                <a:cubicBezTo>
                  <a:pt x="2376" y="0"/>
                  <a:pt x="2652" y="8"/>
                  <a:pt x="2928" y="16"/>
                </a:cubicBezTo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formasi Lebih Jau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MRG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s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ub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gdlhub.indonesiaDLN.or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omepage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http://gdl.itb.ac.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352680" y="297180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sebuah fil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community of Indonesian people that share their ow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network of digital library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ward a better life (knowledge based societ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e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: perjanjian primordial (Ali Imran 18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majuan penelitian/kehidupan hanya dicapai melalui saling berbagi ilmu pengetahu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ntutan: AFTA, Global Trade, ds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they are?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hey 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in Indon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abr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o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’s painting (their first knowle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’s wri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’s course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’s research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man’s tips of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potency and heri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Ty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y Literatures,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it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716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7010280" cy="6289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ahoma"/>
              </a:rPr>
              <a:t>Knowledge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1-06-26T15:09:33Z</dcterms:modified>
  <cp:revision>53</cp:revision>
  <dc:subject/>
  <dc:title>IndonesiaDLN: How It Works?</dc:title>
</cp:coreProperties>
</file>