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67DA-67D3-4D19-8CDF-95165631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1462-890A-4E7E-AD9E-0E306577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FB56-66D2-4716-9F49-259364B16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EEB1-D716-4B1F-9369-1C4FF5EA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75C7-4F43-4EC8-8C43-F34777AE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D6F9-F4AC-45CD-A3A5-34646FF8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FE13-95CB-49D7-9D3E-0847CB03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1DAD-FB2B-47B1-914B-658164BE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A5A7-CD1B-47FF-B49F-49A51B20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8D8E-CB28-4874-8900-34701AC5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B01F-0538-4D57-B33F-8616C950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512A-ADF6-40A4-B797-04B055BF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EECE-CAE7-4C6B-BABE-42977F641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ital Libr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menterian Lingkungan Hid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mail Fah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ledge Management Research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itut Teknologi Ban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dlhub" descr=""/>
          <p:cNvPicPr/>
          <p:nvPr/>
        </p:nvPicPr>
        <p:blipFill>
          <a:blip r:embed="rId1"/>
          <a:stretch/>
        </p:blipFill>
        <p:spPr>
          <a:xfrm>
            <a:off x="928800" y="219240"/>
            <a:ext cx="7286400" cy="6419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4724280"/>
            <a:ext cx="289584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228600"/>
            <a:ext cx="3879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b Server IndonesiaD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gdlhub.indonesiadl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gdl-klh" descr=""/>
          <p:cNvPicPr/>
          <p:nvPr/>
        </p:nvPicPr>
        <p:blipFill>
          <a:blip r:embed="rId1"/>
          <a:stretch/>
        </p:blipFill>
        <p:spPr>
          <a:xfrm>
            <a:off x="507960" y="668160"/>
            <a:ext cx="8126280" cy="5521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47560" y="1295280"/>
            <a:ext cx="27226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in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Library K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klh-list" descr=""/>
          <p:cNvPicPr/>
          <p:nvPr/>
        </p:nvPicPr>
        <p:blipFill>
          <a:blip r:embed="rId1"/>
          <a:stretch/>
        </p:blipFill>
        <p:spPr>
          <a:xfrm>
            <a:off x="576360" y="1571760"/>
            <a:ext cx="7989840" cy="3714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179520" y="498600"/>
            <a:ext cx="4955400" cy="459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artikel dalam Digital Library K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klh-artikel" descr=""/>
          <p:cNvPicPr/>
          <p:nvPr/>
        </p:nvPicPr>
        <p:blipFill>
          <a:blip r:embed="rId1"/>
          <a:stretch/>
        </p:blipFill>
        <p:spPr>
          <a:xfrm>
            <a:off x="571680" y="776160"/>
            <a:ext cx="8001000" cy="5303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16080" y="117360"/>
            <a:ext cx="6217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 Artikel dengan List File untuk didown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7T14:51:13Z</dcterms:created>
  <dc:creator>Ismail Fahmi</dc:creator>
  <dc:description/>
  <dc:language>en-US</dc:language>
  <cp:lastModifiedBy>Ismail Fahmi</cp:lastModifiedBy>
  <dcterms:modified xsi:type="dcterms:W3CDTF">2002-07-27T15:01:10Z</dcterms:modified>
  <cp:revision>2</cp:revision>
  <dc:subject/>
  <dc:title>Digital Library Kementerian Lingkungan Hidup</dc:title>
</cp:coreProperties>
</file>