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.png" ContentType="image/png"/>
  <Override PartName="/ppt/media/image3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14.png" ContentType="image/png"/>
  <Override PartName="/ppt/media/image9.wmf" ContentType="image/x-wmf"/>
  <Override PartName="/ppt/media/image25.png" ContentType="image/png"/>
  <Override PartName="/ppt/media/image10.wmf" ContentType="image/x-wmf"/>
  <Override PartName="/ppt/media/image4.png" ContentType="image/png"/>
  <Override PartName="/ppt/media/image27.png" ContentType="image/png"/>
  <Override PartName="/ppt/media/image30.wmf" ContentType="image/x-wmf"/>
  <Override PartName="/ppt/media/image28.png" ContentType="image/png"/>
  <Override PartName="/ppt/media/image1.wmf" ContentType="image/x-wmf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media/image29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9B9A-C6B8-46FA-992B-925C6D7AB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D0DE8-ED61-494D-8D7C-C5B2E1E8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698F6-477B-4039-9CD9-B78DDE956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F144-F286-4E60-AFD1-1DB056F3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18A7-1BDA-491A-A50B-D2AE6C53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C5C63-9262-4A6B-9352-5F82412A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C752-CA9C-45BE-9CA9-56BA0A6DC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FD744-A012-48C4-86BC-BC2A7998B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B0FA-CCAF-4C5E-BC62-4863C6BEE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19C7B-50AD-4DE3-9616-8F12DF88C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1978-961B-4180-AC72-DA1A64030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015E-0606-4D66-A840-D7AFF283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6AE04-E14B-453E-A13B-15FBE9302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62053-95C6-4ADE-A4B5-0C7B1B01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8641-7AC3-4494-8540-4871EBF62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E8EBC-AEBA-45B3-91AD-CAAD27AA3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236196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352400"/>
            <a:ext cx="228168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81EB-8884-47F6-878C-0D095308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3EBF-A5E9-4B9E-977A-71610670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1C607-BF07-4C73-A8D7-61038BC61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71115-14BB-47A0-AA18-DE701291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685800"/>
            <a:ext cx="7086600" cy="67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19A9-969F-475A-A51E-62EEE1183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4E6A-DFB0-42AD-B8F7-7B651425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35240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FBE6-5B7E-4685-8928-FCA25E7AC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2361960"/>
            <a:ext cx="345816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352400"/>
            <a:ext cx="7086600" cy="181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E3BC-19EF-46CD-B456-F650D08F7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4CB6-DB2E-4A43-B59C-6335FDDE7EEA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BDF13-9531-4B19-898D-91A4B8C70C8A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733560" y="914400"/>
            <a:ext cx="472428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The Indonesian Environmental Digital Library Network:</a:t>
            </a:r>
            <a:br>
              <a:rPr sz="24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haring Informasi dan Pengetahuan tentang Lingkungan Hidup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{ ismail@itb.ac.id }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 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Lingkungan Hid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13 Agustus 2002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pic>
        <p:nvPicPr>
          <p:cNvPr id="103" name="BD06662_" descr=""/>
          <p:cNvPicPr/>
          <p:nvPr/>
        </p:nvPicPr>
        <p:blipFill>
          <a:blip r:embed="rId1"/>
          <a:stretch/>
        </p:blipFill>
        <p:spPr>
          <a:xfrm>
            <a:off x="1219320" y="152388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4057560" y="29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uju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gembangkan software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Open-Sourc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(GDL, Ganesha Digital Library) berbasis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regional technolog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mbangu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jaringa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an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komunita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en-US" sz="2800" spc="-1" strike="noStrike">
                <a:solidFill>
                  <a:srgbClr val="ffcc00"/>
                </a:solidFill>
                <a:latin typeface="Tahoma"/>
              </a:rPr>
              <a:t>Knowledge Sharin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i Indonesia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osialisasi, promosi, dan support terhadap komunita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manfaatan pengetahuan untuk bangsa Indonesi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PE02002_" descr=""/>
          <p:cNvPicPr/>
          <p:nvPr/>
        </p:nvPicPr>
        <p:blipFill>
          <a:blip r:embed="rId1"/>
          <a:stretch/>
        </p:blipFill>
        <p:spPr>
          <a:xfrm>
            <a:off x="6134040" y="228600"/>
            <a:ext cx="19782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laksana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khir 1999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rotipe software GDL 3.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Agustus 200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ITB Digital Library (GDL 3.0) + Pembentukan forum IndonesiaDL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/d 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pengembangan GDL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Juni 2001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launching GDL-Network (network pertama di IndonesiaDL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Maret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3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meeting, inisialisasi pembentukan sub-sub network (kesehatan, pertanian, lingkungan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Sekarang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: realisasi network-of-networks, gabung ke Open Archive Initia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9" name="BD04972_" descr=""/>
          <p:cNvPicPr/>
          <p:nvPr/>
        </p:nvPicPr>
        <p:blipFill>
          <a:blip r:embed="rId1"/>
          <a:stretch/>
        </p:blipFill>
        <p:spPr>
          <a:xfrm>
            <a:off x="5562720" y="609480"/>
            <a:ext cx="216216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kator Keberhasil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oftware / Teknologi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, open source, &gt; 1500 x downloa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Standar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Metadata, OAI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Network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GDL Network (pertama), sub-network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omunita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donesiaDL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artner Nasional &amp; Internasion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0 aktif; 80 terdafta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Contents / Koleksi Digital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5000+ metadata, fi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Penggun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4500+ us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Kerjasam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Meeting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3 kali meeting tahuna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ahoma"/>
              </a:rPr>
              <a:t>Awar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2 nasional; 3 interna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2" name="PE01832_" descr=""/>
          <p:cNvPicPr/>
          <p:nvPr/>
        </p:nvPicPr>
        <p:blipFill>
          <a:blip r:embed="rId1"/>
          <a:stretch/>
        </p:blipFill>
        <p:spPr>
          <a:xfrm>
            <a:off x="6705720" y="533520"/>
            <a:ext cx="190476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828800" y="19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793880"/>
          <a:ext cx="9144000" cy="50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93880"/>
                    <a:ext cx="9144000" cy="506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7086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ta Partner/Node Nasional, IndonesiaDL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Node di Luar Neger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buah NGO di Pakis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orang mahasiswa (personal) di U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ntor IDRC, Singapo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ccess Centers: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haring and Disse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61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2057400" y="266688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2514600" y="4267080"/>
            <a:ext cx="1447920" cy="914400"/>
            <a:chOff x="2514600" y="4267080"/>
            <a:chExt cx="1447920" cy="914400"/>
          </a:xfrm>
        </p:grpSpPr>
        <p:sp>
          <p:nvSpPr>
            <p:cNvPr id="183" name=""/>
            <p:cNvSpPr/>
            <p:nvPr/>
          </p:nvSpPr>
          <p:spPr>
            <a:xfrm>
              <a:off x="251460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"/>
            <p:cNvGrpSpPr/>
            <p:nvPr/>
          </p:nvGrpSpPr>
          <p:grpSpPr>
            <a:xfrm>
              <a:off x="2665440" y="4267080"/>
              <a:ext cx="865080" cy="851400"/>
              <a:chOff x="2665440" y="4267080"/>
              <a:chExt cx="865080" cy="851400"/>
            </a:xfrm>
          </p:grpSpPr>
          <p:grpSp>
            <p:nvGrpSpPr>
              <p:cNvPr id="185" name=""/>
              <p:cNvGrpSpPr/>
              <p:nvPr/>
            </p:nvGrpSpPr>
            <p:grpSpPr>
              <a:xfrm>
                <a:off x="2847600" y="4267080"/>
                <a:ext cx="398520" cy="531720"/>
                <a:chOff x="2847600" y="4267080"/>
                <a:chExt cx="398520" cy="53172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84760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7440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309960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311220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311220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1878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1500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11220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"/>
              <p:cNvSpPr/>
              <p:nvPr/>
            </p:nvSpPr>
            <p:spPr>
              <a:xfrm>
                <a:off x="266544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95" name=""/>
          <p:cNvGrpSpPr/>
          <p:nvPr/>
        </p:nvGrpSpPr>
        <p:grpSpPr>
          <a:xfrm>
            <a:off x="4876920" y="4419720"/>
            <a:ext cx="1447560" cy="914400"/>
            <a:chOff x="4876920" y="4419720"/>
            <a:chExt cx="1447560" cy="914400"/>
          </a:xfrm>
        </p:grpSpPr>
        <p:sp>
          <p:nvSpPr>
            <p:cNvPr id="196" name=""/>
            <p:cNvSpPr/>
            <p:nvPr/>
          </p:nvSpPr>
          <p:spPr>
            <a:xfrm>
              <a:off x="487692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7" name=""/>
            <p:cNvGrpSpPr/>
            <p:nvPr/>
          </p:nvGrpSpPr>
          <p:grpSpPr>
            <a:xfrm>
              <a:off x="5181480" y="4419720"/>
              <a:ext cx="755280" cy="851760"/>
              <a:chOff x="5181480" y="4419720"/>
              <a:chExt cx="755280" cy="85176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5308200" y="4419720"/>
                <a:ext cx="398520" cy="532080"/>
                <a:chOff x="5308200" y="4419720"/>
                <a:chExt cx="398520" cy="532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530820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553500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556020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57280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57280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56484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56106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57280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7" name=""/>
              <p:cNvSpPr/>
              <p:nvPr/>
            </p:nvSpPr>
            <p:spPr>
              <a:xfrm>
                <a:off x="518148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08" name=""/>
          <p:cNvSpPr/>
          <p:nvPr/>
        </p:nvSpPr>
        <p:spPr>
          <a:xfrm>
            <a:off x="259092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 flipH="1">
            <a:off x="3200400" y="403848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80060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429000"/>
            <a:ext cx="1447920" cy="533520"/>
          </a:xfrm>
          <a:prstGeom prst="ellipse">
            <a:avLst/>
          </a:prstGeom>
          <a:gradFill rotWithShape="0">
            <a:gsLst>
              <a:gs pos="0">
                <a:srgbClr val="17462f"/>
              </a:gs>
              <a:gs pos="100000">
                <a:srgbClr val="339966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400440" y="3651120"/>
            <a:ext cx="92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ers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3886200" y="1828800"/>
            <a:ext cx="1023840" cy="1568880"/>
            <a:chOff x="3886200" y="182880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388620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620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391104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18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19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27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29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30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8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240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241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49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251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252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60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262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263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273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274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284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285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288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0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291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297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298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6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08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09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7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19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20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30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334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37" name="pc" descr=""/>
          <p:cNvPicPr/>
          <p:nvPr/>
        </p:nvPicPr>
        <p:blipFill>
          <a:blip r:embed="rId3"/>
          <a:stretch/>
        </p:blipFill>
        <p:spPr>
          <a:xfrm>
            <a:off x="49528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38" name="pc" descr=""/>
          <p:cNvPicPr/>
          <p:nvPr/>
        </p:nvPicPr>
        <p:blipFill>
          <a:blip r:embed="rId4"/>
          <a:stretch/>
        </p:blipFill>
        <p:spPr>
          <a:xfrm>
            <a:off x="7620120" y="49528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39" name="pc" descr=""/>
          <p:cNvPicPr/>
          <p:nvPr/>
        </p:nvPicPr>
        <p:blipFill>
          <a:blip r:embed="rId5"/>
          <a:stretch/>
        </p:blipFill>
        <p:spPr>
          <a:xfrm>
            <a:off x="6629400" y="42670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0" name="pc" descr=""/>
          <p:cNvPicPr/>
          <p:nvPr/>
        </p:nvPicPr>
        <p:blipFill>
          <a:blip r:embed="rId6"/>
          <a:stretch/>
        </p:blipFill>
        <p:spPr>
          <a:xfrm>
            <a:off x="6019920" y="472428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1" name="pc" descr=""/>
          <p:cNvPicPr/>
          <p:nvPr/>
        </p:nvPicPr>
        <p:blipFill>
          <a:blip r:embed="rId7"/>
          <a:stretch/>
        </p:blipFill>
        <p:spPr>
          <a:xfrm>
            <a:off x="5867280" y="5943600"/>
            <a:ext cx="879480" cy="708120"/>
          </a:xfrm>
          <a:prstGeom prst="rect">
            <a:avLst/>
          </a:prstGeom>
          <a:ln w="0">
            <a:noFill/>
          </a:ln>
        </p:spPr>
      </p:pic>
      <p:pic>
        <p:nvPicPr>
          <p:cNvPr id="342" name="pc" descr=""/>
          <p:cNvPicPr/>
          <p:nvPr/>
        </p:nvPicPr>
        <p:blipFill>
          <a:blip r:embed="rId8"/>
          <a:stretch/>
        </p:blipFill>
        <p:spPr>
          <a:xfrm>
            <a:off x="6781680" y="5334120"/>
            <a:ext cx="879480" cy="707760"/>
          </a:xfrm>
          <a:prstGeom prst="rect">
            <a:avLst/>
          </a:prstGeom>
          <a:ln w="0">
            <a:noFill/>
          </a:ln>
        </p:spPr>
      </p:pic>
      <p:pic>
        <p:nvPicPr>
          <p:cNvPr id="343" name="laptop" descr=""/>
          <p:cNvPicPr/>
          <p:nvPr/>
        </p:nvPicPr>
        <p:blipFill>
          <a:blip r:embed="rId9"/>
          <a:stretch/>
        </p:blipFill>
        <p:spPr>
          <a:xfrm>
            <a:off x="6400800" y="3048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4" name="laptop" descr=""/>
          <p:cNvPicPr/>
          <p:nvPr/>
        </p:nvPicPr>
        <p:blipFill>
          <a:blip r:embed="rId10"/>
          <a:stretch/>
        </p:blipFill>
        <p:spPr>
          <a:xfrm>
            <a:off x="6553080" y="1905120"/>
            <a:ext cx="800280" cy="639720"/>
          </a:xfrm>
          <a:prstGeom prst="rect">
            <a:avLst/>
          </a:prstGeom>
          <a:ln w="0">
            <a:noFill/>
          </a:ln>
        </p:spPr>
      </p:pic>
      <p:pic>
        <p:nvPicPr>
          <p:cNvPr id="345" name="laptop" descr=""/>
          <p:cNvPicPr/>
          <p:nvPr/>
        </p:nvPicPr>
        <p:blipFill>
          <a:blip r:embed="rId11"/>
          <a:stretch/>
        </p:blipFill>
        <p:spPr>
          <a:xfrm>
            <a:off x="7620120" y="2209680"/>
            <a:ext cx="799920" cy="639720"/>
          </a:xfrm>
          <a:prstGeom prst="rect">
            <a:avLst/>
          </a:prstGeom>
          <a:ln w="0">
            <a:noFill/>
          </a:ln>
        </p:spPr>
      </p:pic>
      <p:pic>
        <p:nvPicPr>
          <p:cNvPr id="346" name="laptop" descr=""/>
          <p:cNvPicPr/>
          <p:nvPr/>
        </p:nvPicPr>
        <p:blipFill>
          <a:blip r:embed="rId12"/>
          <a:stretch/>
        </p:blipFill>
        <p:spPr>
          <a:xfrm>
            <a:off x="8153280" y="3657600"/>
            <a:ext cx="800280" cy="63972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349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355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360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2844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omponen pengikat jaringan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Metadata Standard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standard Dublin Core (internasional) yang dimodifikasi. Dibicarakan di forum IndonesiaDLN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tiap Network dalam IndonesiaDLN dapat memiliki standard metadata sendiri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rotokol Komunikasi Standar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nggunakan OAI, Open Archive Initiatives Protocol, http://www.openarchives.or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gdlhub" descr=""/>
          <p:cNvPicPr/>
          <p:nvPr/>
        </p:nvPicPr>
        <p:blipFill>
          <a:blip r:embed="rId1"/>
          <a:stretch/>
        </p:blipFill>
        <p:spPr>
          <a:xfrm>
            <a:off x="0" y="0"/>
            <a:ext cx="5094360" cy="6858000"/>
          </a:xfrm>
          <a:prstGeom prst="rect">
            <a:avLst/>
          </a:prstGeom>
          <a:ln w="0">
            <a:noFill/>
          </a:ln>
        </p:spPr>
      </p:pic>
      <p:pic>
        <p:nvPicPr>
          <p:cNvPr id="365" name="categories" descr=""/>
          <p:cNvPicPr/>
          <p:nvPr/>
        </p:nvPicPr>
        <p:blipFill>
          <a:blip r:embed="rId2"/>
          <a:stretch/>
        </p:blipFill>
        <p:spPr>
          <a:xfrm>
            <a:off x="5181480" y="304920"/>
            <a:ext cx="3962520" cy="1315800"/>
          </a:xfrm>
          <a:prstGeom prst="rect">
            <a:avLst/>
          </a:prstGeom>
          <a:ln w="0">
            <a:noFill/>
          </a:ln>
        </p:spPr>
      </p:pic>
      <p:pic>
        <p:nvPicPr>
          <p:cNvPr id="366" name="detail" descr=""/>
          <p:cNvPicPr/>
          <p:nvPr/>
        </p:nvPicPr>
        <p:blipFill>
          <a:blip r:embed="rId3"/>
          <a:stretch/>
        </p:blipFill>
        <p:spPr>
          <a:xfrm>
            <a:off x="5151600" y="2209680"/>
            <a:ext cx="3992400" cy="43434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152280" y="3733920"/>
            <a:ext cx="1828800" cy="152280"/>
          </a:xfrm>
          <a:prstGeom prst="rect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981080" y="304560"/>
            <a:ext cx="3200400" cy="3581640"/>
            <a:chOff x="1981080" y="304560"/>
            <a:chExt cx="3200400" cy="3581640"/>
          </a:xfrm>
        </p:grpSpPr>
        <p:sp>
          <p:nvSpPr>
            <p:cNvPr id="369" name=""/>
            <p:cNvSpPr/>
            <p:nvPr/>
          </p:nvSpPr>
          <p:spPr>
            <a:xfrm flipV="1">
              <a:off x="1981080" y="304560"/>
              <a:ext cx="3200400" cy="3429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1981080" y="1600200"/>
              <a:ext cx="3200400" cy="2286000"/>
            </a:xfrm>
            <a:prstGeom prst="line">
              <a:avLst/>
            </a:prstGeom>
            <a:ln w="93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457200" y="304920"/>
            <a:ext cx="21337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donesiaDLN Partn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" y="1981080"/>
            <a:ext cx="123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2438280" y="990720"/>
          <a:ext cx="6438960" cy="56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990720"/>
                    <a:ext cx="6438960" cy="56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5" name=""/>
          <p:cNvSpPr/>
          <p:nvPr/>
        </p:nvSpPr>
        <p:spPr>
          <a:xfrm>
            <a:off x="6781680" y="838080"/>
            <a:ext cx="1143000" cy="57913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embers’ Jo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355760" y="1411200"/>
            <a:ext cx="131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ugust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2743200" y="1447920"/>
          <a:ext cx="5486400" cy="50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3200" y="1447920"/>
                    <a:ext cx="5486400" cy="50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ekilas Tentang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3200040"/>
            <a:ext cx="70866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0066"/>
                </a:solidFill>
                <a:latin typeface="Arial Black"/>
              </a:rPr>
              <a:t>Indonesia</a:t>
            </a:r>
            <a:r>
              <a:rPr b="1" lang="en-US" sz="6600" spc="-1" strike="noStrike">
                <a:solidFill>
                  <a:srgbClr val="000066"/>
                </a:solidFill>
                <a:latin typeface="Arial Black"/>
              </a:rPr>
              <a:t>DLN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he Content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279440" y="148752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Nov 200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2" name=""/>
          <p:cNvGraphicFramePr/>
          <p:nvPr/>
        </p:nvGraphicFramePr>
        <p:xfrm>
          <a:off x="3048120" y="1371600"/>
          <a:ext cx="5462640" cy="526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1371600"/>
                    <a:ext cx="5462640" cy="52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Ranca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ahoma"/>
              </a:rPr>
              <a:t>Indonesian Environmental Digital Library Network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IEDLN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 IE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jadi wahana untuk saling berbagi informasi dan pengetahuan tentang lingkungan hidup di Indonesia, melalui sebuah jaringan digital library yang terbuk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 flipH="1" flipV="1">
            <a:off x="6781680" y="3657600"/>
            <a:ext cx="990720" cy="12952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6705360" y="3809520"/>
            <a:ext cx="228600" cy="114300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48520" y="2590920"/>
            <a:ext cx="685800" cy="1295280"/>
          </a:xfrm>
          <a:prstGeom prst="ellipse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04920" y="1600200"/>
            <a:ext cx="5333760" cy="4572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EDL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04920" y="50292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usarped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981080" y="4724280"/>
            <a:ext cx="636840" cy="436680"/>
            <a:chOff x="1981080" y="4724280"/>
            <a:chExt cx="636840" cy="436680"/>
          </a:xfrm>
        </p:grpSpPr>
        <p:sp>
          <p:nvSpPr>
            <p:cNvPr id="395" name=""/>
            <p:cNvSpPr/>
            <p:nvPr/>
          </p:nvSpPr>
          <p:spPr>
            <a:xfrm>
              <a:off x="2113560" y="4735800"/>
              <a:ext cx="460800" cy="2638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169360" y="4772160"/>
              <a:ext cx="320760" cy="1864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2217600" y="5011560"/>
              <a:ext cx="283320" cy="306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194200" y="4802400"/>
              <a:ext cx="116280" cy="586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373120" y="4875120"/>
              <a:ext cx="72360" cy="5580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1991880" y="5079960"/>
              <a:ext cx="621360" cy="77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114640" y="5034960"/>
              <a:ext cx="475920" cy="7560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238840" y="4999320"/>
              <a:ext cx="258480" cy="331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442960" y="4782600"/>
              <a:ext cx="120600" cy="2232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219040" y="4964400"/>
              <a:ext cx="230040" cy="219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42360" y="4758480"/>
              <a:ext cx="356040" cy="19296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18480" y="5047560"/>
              <a:ext cx="153000" cy="324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76800" y="5062680"/>
              <a:ext cx="74880" cy="194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86480" y="5135040"/>
              <a:ext cx="619560" cy="23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107440" y="5024160"/>
              <a:ext cx="490680" cy="22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2572920" y="5026320"/>
              <a:ext cx="30960" cy="8676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414520" y="5049720"/>
              <a:ext cx="14400" cy="2916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20640" y="5045760"/>
              <a:ext cx="153360" cy="72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473560" y="5061600"/>
              <a:ext cx="86400" cy="1440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077560" y="5070240"/>
              <a:ext cx="468720" cy="1908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007720" y="5128200"/>
              <a:ext cx="426960" cy="1476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559240" y="5086440"/>
              <a:ext cx="56520" cy="486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585160" y="5140080"/>
              <a:ext cx="32760" cy="183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996560" y="5146920"/>
              <a:ext cx="599400" cy="140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109240" y="5088960"/>
              <a:ext cx="319680" cy="190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093040" y="5106600"/>
              <a:ext cx="232560" cy="1404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473920" y="5102280"/>
              <a:ext cx="70200" cy="756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489760" y="5112720"/>
              <a:ext cx="70920" cy="684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495520" y="5124600"/>
              <a:ext cx="81720" cy="828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098080" y="4724280"/>
              <a:ext cx="436320" cy="6876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2549160" y="4729680"/>
              <a:ext cx="44640" cy="3888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519640" y="4763160"/>
              <a:ext cx="75240" cy="22932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499840" y="4744800"/>
              <a:ext cx="48600" cy="20772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97720" y="4798800"/>
              <a:ext cx="83880" cy="193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189880" y="4993560"/>
              <a:ext cx="274320" cy="97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469960" y="4994280"/>
              <a:ext cx="51840" cy="108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217600" y="4996080"/>
              <a:ext cx="41760" cy="3276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93480" y="5026320"/>
              <a:ext cx="20160" cy="147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422440" y="4995720"/>
              <a:ext cx="60480" cy="2124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91560" y="5011560"/>
              <a:ext cx="9720" cy="1908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212200" y="4971600"/>
              <a:ext cx="12960" cy="1620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213640" y="4961520"/>
              <a:ext cx="241920" cy="136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448720" y="4962240"/>
              <a:ext cx="9360" cy="183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399040" y="4969440"/>
              <a:ext cx="9000" cy="140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353320" y="4969080"/>
              <a:ext cx="11160" cy="140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301120" y="4968360"/>
              <a:ext cx="10440" cy="1476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55400" y="4969800"/>
              <a:ext cx="11520" cy="1548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88960" y="4772520"/>
              <a:ext cx="86760" cy="2124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146320" y="4838760"/>
              <a:ext cx="69840" cy="1148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15440" y="4936680"/>
              <a:ext cx="249120" cy="212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448360" y="4767120"/>
              <a:ext cx="51480" cy="17856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985040" y="5077440"/>
              <a:ext cx="87840" cy="5832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981080" y="5131800"/>
              <a:ext cx="25560" cy="205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145960" y="4764960"/>
              <a:ext cx="340560" cy="540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168280" y="4781160"/>
              <a:ext cx="138960" cy="90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104200" y="5042880"/>
              <a:ext cx="12240" cy="3024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228600" y="3124080"/>
            <a:ext cx="2514600" cy="83844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Pelang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124080" y="52578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KL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4572000" y="4876920"/>
            <a:ext cx="609480" cy="512640"/>
            <a:chOff x="4572000" y="4876920"/>
            <a:chExt cx="609480" cy="512640"/>
          </a:xfrm>
        </p:grpSpPr>
        <p:sp>
          <p:nvSpPr>
            <p:cNvPr id="454" name=""/>
            <p:cNvSpPr/>
            <p:nvPr/>
          </p:nvSpPr>
          <p:spPr>
            <a:xfrm>
              <a:off x="4698720" y="4890240"/>
              <a:ext cx="44100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752360" y="4933440"/>
              <a:ext cx="30708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798080" y="5214240"/>
              <a:ext cx="2710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776120" y="4968720"/>
              <a:ext cx="111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947120" y="5054040"/>
              <a:ext cx="694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82440" y="5294160"/>
              <a:ext cx="5947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699800" y="5241600"/>
              <a:ext cx="4554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818600" y="5199840"/>
              <a:ext cx="2473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14080" y="4945680"/>
              <a:ext cx="115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799880" y="5158800"/>
              <a:ext cx="220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26440" y="4916880"/>
              <a:ext cx="34056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990680" y="5256360"/>
              <a:ext cx="14616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046480" y="5274000"/>
              <a:ext cx="7164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577040" y="5359320"/>
              <a:ext cx="59292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692960" y="5228640"/>
              <a:ext cx="46944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138280" y="5231520"/>
              <a:ext cx="2952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986720" y="5258880"/>
              <a:ext cx="1368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992480" y="5254200"/>
              <a:ext cx="14688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5043600" y="5272920"/>
              <a:ext cx="8280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664520" y="5283000"/>
              <a:ext cx="448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597560" y="5351040"/>
              <a:ext cx="40860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5125320" y="5302080"/>
              <a:ext cx="5400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50160" y="5365080"/>
              <a:ext cx="3132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586760" y="5373000"/>
              <a:ext cx="57348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694400" y="5304960"/>
              <a:ext cx="306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679280" y="5325480"/>
              <a:ext cx="222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5043960" y="5320800"/>
              <a:ext cx="669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058720" y="5333040"/>
              <a:ext cx="6804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5064480" y="5347080"/>
              <a:ext cx="7812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83960" y="4876920"/>
              <a:ext cx="41760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5115600" y="4883400"/>
              <a:ext cx="42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087520" y="4922640"/>
              <a:ext cx="7200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068440" y="4901040"/>
              <a:ext cx="464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683600" y="4964400"/>
              <a:ext cx="8028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771800" y="5193000"/>
              <a:ext cx="262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040000" y="5193720"/>
              <a:ext cx="4968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798080" y="5196240"/>
              <a:ext cx="3996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775400" y="5231520"/>
              <a:ext cx="194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4994280" y="5195520"/>
              <a:ext cx="5796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060520" y="5214240"/>
              <a:ext cx="93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793400" y="5167080"/>
              <a:ext cx="1224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794480" y="5155200"/>
              <a:ext cx="23148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019840" y="5156280"/>
              <a:ext cx="90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971960" y="5164560"/>
              <a:ext cx="86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928400" y="5164200"/>
              <a:ext cx="1080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878360" y="5163120"/>
              <a:ext cx="1008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834440" y="5165280"/>
              <a:ext cx="1080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4962240" y="4933440"/>
              <a:ext cx="8316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30040" y="5011200"/>
              <a:ext cx="669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796280" y="5126400"/>
              <a:ext cx="23868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019480" y="4926960"/>
              <a:ext cx="4932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575600" y="5291280"/>
              <a:ext cx="8388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572000" y="5355000"/>
              <a:ext cx="241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729680" y="4924800"/>
              <a:ext cx="32616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751280" y="4943520"/>
              <a:ext cx="1328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90080" y="5250960"/>
              <a:ext cx="1188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0" name=""/>
          <p:cNvGrpSpPr/>
          <p:nvPr/>
        </p:nvGrpSpPr>
        <p:grpSpPr>
          <a:xfrm>
            <a:off x="3657600" y="3048120"/>
            <a:ext cx="609480" cy="609480"/>
            <a:chOff x="3657600" y="3048120"/>
            <a:chExt cx="609480" cy="609480"/>
          </a:xfrm>
        </p:grpSpPr>
        <p:sp>
          <p:nvSpPr>
            <p:cNvPr id="511" name=""/>
            <p:cNvSpPr/>
            <p:nvPr/>
          </p:nvSpPr>
          <p:spPr>
            <a:xfrm>
              <a:off x="3784320" y="3063960"/>
              <a:ext cx="441000" cy="36828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837960" y="3115080"/>
              <a:ext cx="307080" cy="2602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883680" y="3449160"/>
              <a:ext cx="271080" cy="4284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861720" y="3157200"/>
              <a:ext cx="111240" cy="82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32720" y="3258720"/>
              <a:ext cx="69480" cy="781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668040" y="3544200"/>
              <a:ext cx="594720" cy="1080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785400" y="3481560"/>
              <a:ext cx="455400" cy="10548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904200" y="3431880"/>
              <a:ext cx="247320" cy="4644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99680" y="3129840"/>
              <a:ext cx="115200" cy="31140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885480" y="3382920"/>
              <a:ext cx="220320" cy="3060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812040" y="3095640"/>
              <a:ext cx="340560" cy="26928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76280" y="3499200"/>
              <a:ext cx="146160" cy="450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132080" y="3520440"/>
              <a:ext cx="71640" cy="2736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3662640" y="3621600"/>
              <a:ext cx="592920" cy="320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3778560" y="3466440"/>
              <a:ext cx="469440" cy="3168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223880" y="3469680"/>
              <a:ext cx="29520" cy="12132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72320" y="3502440"/>
              <a:ext cx="13680" cy="4068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4078080" y="3496680"/>
              <a:ext cx="146880" cy="1008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129200" y="3518640"/>
              <a:ext cx="82800" cy="2016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0120" y="3531240"/>
              <a:ext cx="448560" cy="2664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683160" y="3611880"/>
              <a:ext cx="408600" cy="2052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210920" y="3553560"/>
              <a:ext cx="54000" cy="680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35760" y="3628440"/>
              <a:ext cx="31320" cy="2556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672360" y="3638160"/>
              <a:ext cx="573480" cy="1944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780000" y="3556800"/>
              <a:ext cx="306000" cy="2700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764880" y="3581640"/>
              <a:ext cx="222480" cy="1980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129560" y="3575520"/>
              <a:ext cx="66960" cy="108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144320" y="3590280"/>
              <a:ext cx="68040" cy="936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150080" y="3606840"/>
              <a:ext cx="78120" cy="115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769560" y="3048120"/>
              <a:ext cx="417600" cy="9612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201200" y="3055680"/>
              <a:ext cx="42840" cy="5436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173120" y="3102480"/>
              <a:ext cx="72000" cy="32004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154040" y="3076560"/>
              <a:ext cx="46440" cy="29016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769200" y="3152160"/>
              <a:ext cx="80280" cy="27036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57400" y="3423960"/>
              <a:ext cx="262440" cy="1368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4125600" y="3424680"/>
              <a:ext cx="49680" cy="1512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883680" y="3427560"/>
              <a:ext cx="39960" cy="457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861000" y="3469680"/>
              <a:ext cx="19440" cy="2088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079880" y="3426840"/>
              <a:ext cx="57960" cy="2988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146120" y="3449160"/>
              <a:ext cx="9360" cy="2664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3879000" y="3393000"/>
              <a:ext cx="12240" cy="223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880080" y="3379320"/>
              <a:ext cx="231480" cy="1908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105440" y="3380040"/>
              <a:ext cx="9000" cy="2556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057560" y="3390120"/>
              <a:ext cx="8640" cy="1944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014000" y="3389760"/>
              <a:ext cx="10800" cy="1944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63960" y="3388680"/>
              <a:ext cx="10080" cy="2052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920040" y="3390840"/>
              <a:ext cx="10800" cy="219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047840" y="3115440"/>
              <a:ext cx="83160" cy="2988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815640" y="3207960"/>
              <a:ext cx="66960" cy="16020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81880" y="3344400"/>
              <a:ext cx="238680" cy="2952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105080" y="3107880"/>
              <a:ext cx="49320" cy="249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61200" y="3540600"/>
              <a:ext cx="83880" cy="8136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657600" y="3616560"/>
              <a:ext cx="24120" cy="2844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15280" y="3105000"/>
              <a:ext cx="326160" cy="756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836880" y="3127320"/>
              <a:ext cx="132840" cy="126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5680" y="3493080"/>
              <a:ext cx="11880" cy="42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7" name=""/>
          <p:cNvSpPr/>
          <p:nvPr/>
        </p:nvSpPr>
        <p:spPr>
          <a:xfrm>
            <a:off x="3050280" y="3657600"/>
            <a:ext cx="21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IEDLN 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438280" y="3124080"/>
            <a:ext cx="1143000" cy="381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V="1">
            <a:off x="2438280" y="4038480"/>
            <a:ext cx="121932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191120" y="4038480"/>
            <a:ext cx="609480" cy="1219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6400800" y="2819520"/>
            <a:ext cx="762120" cy="741240"/>
            <a:chOff x="6400800" y="2819520"/>
            <a:chExt cx="762120" cy="741240"/>
          </a:xfrm>
        </p:grpSpPr>
        <p:sp>
          <p:nvSpPr>
            <p:cNvPr id="572" name=""/>
            <p:cNvSpPr/>
            <p:nvPr/>
          </p:nvSpPr>
          <p:spPr>
            <a:xfrm>
              <a:off x="6559560" y="2838960"/>
              <a:ext cx="551160" cy="44784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626160" y="2901240"/>
              <a:ext cx="383760" cy="31644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683760" y="3306960"/>
              <a:ext cx="339120" cy="522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6656040" y="2952360"/>
              <a:ext cx="138960" cy="10008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869880" y="3075480"/>
              <a:ext cx="86760" cy="9504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414120" y="3422880"/>
              <a:ext cx="743400" cy="13140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560640" y="3346560"/>
              <a:ext cx="569520" cy="1281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708960" y="3286080"/>
              <a:ext cx="309240" cy="5652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953400" y="2918880"/>
              <a:ext cx="144360" cy="378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685560" y="3226680"/>
              <a:ext cx="275400" cy="3708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593760" y="2877480"/>
              <a:ext cx="425880" cy="3276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924240" y="3367800"/>
              <a:ext cx="182880" cy="5472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994080" y="3393720"/>
              <a:ext cx="89640" cy="3312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407280" y="3516840"/>
              <a:ext cx="741240" cy="3924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552360" y="3328200"/>
              <a:ext cx="587160" cy="3852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108920" y="3332160"/>
              <a:ext cx="37080" cy="14760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6919560" y="3371760"/>
              <a:ext cx="16920" cy="4932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6926760" y="3365280"/>
              <a:ext cx="183600" cy="1260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6990480" y="3391920"/>
              <a:ext cx="103680" cy="2448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516360" y="3407040"/>
              <a:ext cx="560880" cy="3240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6432480" y="3504960"/>
              <a:ext cx="511200" cy="2520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092720" y="3434400"/>
              <a:ext cx="67680" cy="8280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123680" y="3525120"/>
              <a:ext cx="39240" cy="3132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419160" y="3537000"/>
              <a:ext cx="717120" cy="237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554160" y="3438360"/>
              <a:ext cx="382320" cy="3276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535080" y="3468240"/>
              <a:ext cx="278280" cy="2412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990840" y="3461040"/>
              <a:ext cx="83880" cy="1332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009560" y="3478680"/>
              <a:ext cx="84960" cy="115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016400" y="3499200"/>
              <a:ext cx="97920" cy="1404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40840" y="2819520"/>
              <a:ext cx="522000" cy="117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0840" y="2828880"/>
              <a:ext cx="53280" cy="6624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045200" y="2885760"/>
              <a:ext cx="90000" cy="38916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021440" y="2854440"/>
              <a:ext cx="58320" cy="35280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540120" y="2945880"/>
              <a:ext cx="100080" cy="32868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650640" y="3276720"/>
              <a:ext cx="328320" cy="169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86160" y="3277440"/>
              <a:ext cx="61920" cy="1836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683760" y="3281040"/>
              <a:ext cx="50040" cy="5544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654960" y="3332160"/>
              <a:ext cx="24120" cy="2556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6928920" y="3279960"/>
              <a:ext cx="72720" cy="3636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7011720" y="3306960"/>
              <a:ext cx="11880" cy="3240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6677640" y="3238920"/>
              <a:ext cx="15480" cy="2736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6679080" y="3222000"/>
              <a:ext cx="289800" cy="234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6960600" y="3223440"/>
              <a:ext cx="11160" cy="3132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900840" y="3235320"/>
              <a:ext cx="10800" cy="237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846480" y="3235320"/>
              <a:ext cx="13680" cy="237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783840" y="3233520"/>
              <a:ext cx="12600" cy="2484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729120" y="3236400"/>
              <a:ext cx="13680" cy="266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888960" y="2901600"/>
              <a:ext cx="104040" cy="3636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598440" y="3013920"/>
              <a:ext cx="83520" cy="19476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681240" y="3180240"/>
              <a:ext cx="298440" cy="3600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960240" y="2891880"/>
              <a:ext cx="61560" cy="3031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405480" y="3418560"/>
              <a:ext cx="105120" cy="990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400800" y="3511080"/>
              <a:ext cx="30240" cy="349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98080" y="2889000"/>
              <a:ext cx="407880" cy="9180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25080" y="2916000"/>
              <a:ext cx="166320" cy="15300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548400" y="3360600"/>
              <a:ext cx="14760" cy="5112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7166880" y="29718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b Ser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4572000" y="3352680"/>
            <a:ext cx="1828800" cy="7632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6477120" y="4800600"/>
            <a:ext cx="2057400" cy="838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9999"/>
            </a:solidFill>
            <a:miter/>
          </a:ln>
          <a:effectLst>
            <a:outerShdw dist="107932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ther Subnet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IndonesiaDL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flipH="1" flipV="1">
            <a:off x="6781320" y="3733560"/>
            <a:ext cx="381240" cy="1066680"/>
          </a:xfrm>
          <a:prstGeom prst="line">
            <a:avLst/>
          </a:prstGeom>
          <a:ln w="381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2" name=""/>
          <p:cNvGrpSpPr/>
          <p:nvPr/>
        </p:nvGrpSpPr>
        <p:grpSpPr>
          <a:xfrm>
            <a:off x="6858000" y="4495680"/>
            <a:ext cx="484200" cy="513000"/>
            <a:chOff x="6858000" y="4495680"/>
            <a:chExt cx="484200" cy="513000"/>
          </a:xfrm>
        </p:grpSpPr>
        <p:sp>
          <p:nvSpPr>
            <p:cNvPr id="633" name=""/>
            <p:cNvSpPr/>
            <p:nvPr/>
          </p:nvSpPr>
          <p:spPr>
            <a:xfrm>
              <a:off x="695880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00128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03764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02000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15608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686628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95952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705384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720900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03908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98040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19064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23492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86196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95412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30800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718740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19208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23240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693144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87816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729756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31736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686952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695520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94332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23276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24464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24932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694692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29000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26768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725220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94656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01676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22988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03764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01964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19352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24608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03368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03476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21368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17588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14096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710136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06644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6796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698364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03620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1332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686088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85800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698328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00020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95160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"/>
          <p:cNvSpPr/>
          <p:nvPr/>
        </p:nvSpPr>
        <p:spPr>
          <a:xfrm>
            <a:off x="7069680" y="5878440"/>
            <a:ext cx="1369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ETD, Heritage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ealth, Hum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ights, et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394960" y="285912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6096600" y="4038480"/>
            <a:ext cx="70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A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7162920" y="4419720"/>
            <a:ext cx="484200" cy="512640"/>
            <a:chOff x="7162920" y="4419720"/>
            <a:chExt cx="484200" cy="512640"/>
          </a:xfrm>
        </p:grpSpPr>
        <p:sp>
          <p:nvSpPr>
            <p:cNvPr id="693" name=""/>
            <p:cNvSpPr/>
            <p:nvPr/>
          </p:nvSpPr>
          <p:spPr>
            <a:xfrm>
              <a:off x="7263720" y="4433040"/>
              <a:ext cx="35028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306200" y="447624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342560" y="475704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324920" y="451152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461000" y="4596840"/>
              <a:ext cx="5508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171200" y="4836960"/>
              <a:ext cx="47232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264440" y="4784400"/>
              <a:ext cx="36180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358760" y="474264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7513920" y="4488480"/>
              <a:ext cx="918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344000" y="470160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285320" y="4459680"/>
              <a:ext cx="27072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495560" y="479916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539840" y="481680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66880" y="490212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259040" y="477144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612920" y="4774320"/>
              <a:ext cx="2340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492320" y="480168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497000" y="479700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537320" y="481572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236360" y="482580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83080" y="489384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602480" y="484488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622280" y="490788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174440" y="491580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260120" y="484776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248240" y="486828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7680" y="486360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549560" y="487584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554240" y="488988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251840" y="441972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594920" y="442620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572600" y="446544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557120" y="444384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7251480" y="450720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7321680" y="473580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7534800" y="473652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7342560" y="473904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7324560" y="477432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498440" y="473832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551000" y="475704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7338600" y="470988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7339680" y="469800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7518600" y="469908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7480800" y="470736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445880" y="470700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7406280" y="470592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7371360" y="470808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7472880" y="447624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7288560" y="455400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341120" y="466920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518240" y="4469760"/>
              <a:ext cx="3888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165800" y="483408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162920" y="489780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88200" y="446760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305120" y="448632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256520" y="479376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9" name=""/>
          <p:cNvGrpSpPr/>
          <p:nvPr/>
        </p:nvGrpSpPr>
        <p:grpSpPr>
          <a:xfrm>
            <a:off x="7467480" y="4495680"/>
            <a:ext cx="484200" cy="513000"/>
            <a:chOff x="7467480" y="4495680"/>
            <a:chExt cx="484200" cy="513000"/>
          </a:xfrm>
        </p:grpSpPr>
        <p:sp>
          <p:nvSpPr>
            <p:cNvPr id="750" name=""/>
            <p:cNvSpPr/>
            <p:nvPr/>
          </p:nvSpPr>
          <p:spPr>
            <a:xfrm>
              <a:off x="7568280" y="4509000"/>
              <a:ext cx="35028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7610760" y="4552200"/>
              <a:ext cx="24372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7647120" y="4833000"/>
              <a:ext cx="2152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29480" y="4587480"/>
              <a:ext cx="8820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765560" y="4672800"/>
              <a:ext cx="5508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475760" y="4913280"/>
              <a:ext cx="47232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7569000" y="4860720"/>
              <a:ext cx="36180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7663320" y="4818600"/>
              <a:ext cx="19656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818480" y="4564440"/>
              <a:ext cx="918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7648560" y="4777560"/>
              <a:ext cx="17496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7589880" y="4535640"/>
              <a:ext cx="27072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7800120" y="4875120"/>
              <a:ext cx="11628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7844400" y="4893120"/>
              <a:ext cx="56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471440" y="4978440"/>
              <a:ext cx="47088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7563600" y="4847760"/>
              <a:ext cx="37296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7917480" y="4850640"/>
              <a:ext cx="2340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796880" y="4878000"/>
              <a:ext cx="108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801560" y="4873320"/>
              <a:ext cx="11664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841880" y="4891680"/>
              <a:ext cx="6588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540920" y="4902120"/>
              <a:ext cx="35640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487640" y="4970160"/>
              <a:ext cx="32472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907040" y="4921200"/>
              <a:ext cx="4284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926840" y="4984200"/>
              <a:ext cx="2484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79000" y="4992120"/>
              <a:ext cx="45576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7564680" y="4924080"/>
              <a:ext cx="24300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7552800" y="4944600"/>
              <a:ext cx="17676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7842240" y="4939560"/>
              <a:ext cx="5328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854120" y="4952160"/>
              <a:ext cx="5400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7858800" y="4966200"/>
              <a:ext cx="6228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7556400" y="4495680"/>
              <a:ext cx="33156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7899480" y="4502160"/>
              <a:ext cx="338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7877160" y="4541400"/>
              <a:ext cx="57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7861680" y="4519800"/>
              <a:ext cx="3708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7556040" y="4583160"/>
              <a:ext cx="6372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626240" y="4812120"/>
              <a:ext cx="20844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839360" y="4812840"/>
              <a:ext cx="3924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647120" y="4815000"/>
              <a:ext cx="3168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629120" y="4850640"/>
              <a:ext cx="1548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803000" y="4814280"/>
              <a:ext cx="460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855560" y="4833000"/>
              <a:ext cx="756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643160" y="4786200"/>
              <a:ext cx="97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644240" y="4774320"/>
              <a:ext cx="18396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7823160" y="4775040"/>
              <a:ext cx="720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7785360" y="4783680"/>
              <a:ext cx="684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7750440" y="4783320"/>
              <a:ext cx="864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710840" y="4782240"/>
              <a:ext cx="792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675920" y="4784040"/>
              <a:ext cx="864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777440" y="4552200"/>
              <a:ext cx="6588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593120" y="4630320"/>
              <a:ext cx="5292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645680" y="4745160"/>
              <a:ext cx="18936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822800" y="4545720"/>
              <a:ext cx="3888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7470360" y="4910400"/>
              <a:ext cx="6660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7467480" y="4974120"/>
              <a:ext cx="1908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7592760" y="4543560"/>
              <a:ext cx="25920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7609680" y="4562280"/>
              <a:ext cx="10548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7561080" y="4870080"/>
              <a:ext cx="936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06" name=""/>
          <p:cNvSpPr/>
          <p:nvPr/>
        </p:nvSpPr>
        <p:spPr>
          <a:xfrm>
            <a:off x="1679400" y="4214880"/>
            <a:ext cx="390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Arial"/>
              </a:rPr>
              <a:t>Access: Dedicated, Internet Café, Dial-up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095880" y="137160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AI = Open Archive Initiatives Protoco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1066680" y="2057400"/>
            <a:ext cx="2514600" cy="83808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SM DML, d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9" name=""/>
          <p:cNvGrpSpPr/>
          <p:nvPr/>
        </p:nvGrpSpPr>
        <p:grpSpPr>
          <a:xfrm>
            <a:off x="1981080" y="2743200"/>
            <a:ext cx="560520" cy="512640"/>
            <a:chOff x="1981080" y="2743200"/>
            <a:chExt cx="560520" cy="512640"/>
          </a:xfrm>
        </p:grpSpPr>
        <p:sp>
          <p:nvSpPr>
            <p:cNvPr id="810" name=""/>
            <p:cNvSpPr/>
            <p:nvPr/>
          </p:nvSpPr>
          <p:spPr>
            <a:xfrm>
              <a:off x="2097720" y="2756520"/>
              <a:ext cx="405360" cy="30960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147040" y="279972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189160" y="308052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168640" y="283500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325960" y="2920320"/>
              <a:ext cx="63720" cy="6552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990800" y="3160440"/>
              <a:ext cx="546840" cy="9072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098800" y="3107880"/>
              <a:ext cx="418680" cy="8856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207880" y="306612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387520" y="2811960"/>
              <a:ext cx="106200" cy="26172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190600" y="302508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122920" y="2783160"/>
              <a:ext cx="313200" cy="22644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365920" y="312264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417400" y="314028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1985760" y="322560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092320" y="309492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502000" y="3097800"/>
              <a:ext cx="27360" cy="10188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362680" y="312516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367720" y="312048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414520" y="313920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066040" y="314928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004480" y="321732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490120" y="316836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512800" y="323136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1994760" y="323928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093760" y="317124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079720" y="319176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414880" y="318708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428560" y="319932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433960" y="321336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084040" y="274320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481120" y="274968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455200" y="278892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437560" y="276732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083680" y="283068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165040" y="305928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411640" y="306000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189160" y="306252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167920" y="309780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369520" y="306180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430360" y="308052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184480" y="303336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185560" y="302148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392920" y="302256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349000" y="303084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308680" y="303048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262600" y="302940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22640" y="303156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340000" y="279972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126520" y="287748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2187360" y="299268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2392560" y="2793240"/>
              <a:ext cx="45360" cy="20952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984320" y="315756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981080" y="322128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2126160" y="279108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2145960" y="280980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2089440" y="311724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6" name=""/>
          <p:cNvGrpSpPr/>
          <p:nvPr/>
        </p:nvGrpSpPr>
        <p:grpSpPr>
          <a:xfrm>
            <a:off x="2743200" y="1752480"/>
            <a:ext cx="560520" cy="513000"/>
            <a:chOff x="2743200" y="1752480"/>
            <a:chExt cx="560520" cy="513000"/>
          </a:xfrm>
        </p:grpSpPr>
        <p:sp>
          <p:nvSpPr>
            <p:cNvPr id="867" name=""/>
            <p:cNvSpPr/>
            <p:nvPr/>
          </p:nvSpPr>
          <p:spPr>
            <a:xfrm>
              <a:off x="2859840" y="1765800"/>
              <a:ext cx="405360" cy="309960"/>
            </a:xfrm>
            <a:custGeom>
              <a:avLst/>
              <a:gdLst/>
              <a:ahLst/>
              <a:rect l="l" t="t" r="r" b="b"/>
              <a:pathLst>
                <a:path w="2306" h="2281">
                  <a:moveTo>
                    <a:pt x="333" y="2226"/>
                  </a:moveTo>
                  <a:lnTo>
                    <a:pt x="242" y="2006"/>
                  </a:lnTo>
                  <a:lnTo>
                    <a:pt x="0" y="689"/>
                  </a:lnTo>
                  <a:lnTo>
                    <a:pt x="8" y="536"/>
                  </a:lnTo>
                  <a:lnTo>
                    <a:pt x="92" y="468"/>
                  </a:lnTo>
                  <a:lnTo>
                    <a:pt x="325" y="369"/>
                  </a:lnTo>
                  <a:lnTo>
                    <a:pt x="688" y="280"/>
                  </a:lnTo>
                  <a:lnTo>
                    <a:pt x="1437" y="90"/>
                  </a:lnTo>
                  <a:lnTo>
                    <a:pt x="1844" y="0"/>
                  </a:lnTo>
                  <a:lnTo>
                    <a:pt x="2027" y="0"/>
                  </a:lnTo>
                  <a:lnTo>
                    <a:pt x="2065" y="14"/>
                  </a:lnTo>
                  <a:lnTo>
                    <a:pt x="2065" y="242"/>
                  </a:lnTo>
                  <a:lnTo>
                    <a:pt x="2027" y="597"/>
                  </a:lnTo>
                  <a:lnTo>
                    <a:pt x="2042" y="1097"/>
                  </a:lnTo>
                  <a:lnTo>
                    <a:pt x="2179" y="111"/>
                  </a:lnTo>
                  <a:lnTo>
                    <a:pt x="2223" y="97"/>
                  </a:lnTo>
                  <a:lnTo>
                    <a:pt x="2276" y="219"/>
                  </a:lnTo>
                  <a:lnTo>
                    <a:pt x="2306" y="377"/>
                  </a:lnTo>
                  <a:lnTo>
                    <a:pt x="2207" y="1188"/>
                  </a:lnTo>
                  <a:lnTo>
                    <a:pt x="2072" y="2209"/>
                  </a:lnTo>
                  <a:lnTo>
                    <a:pt x="1974" y="2259"/>
                  </a:lnTo>
                  <a:lnTo>
                    <a:pt x="1616" y="2281"/>
                  </a:lnTo>
                  <a:lnTo>
                    <a:pt x="514" y="2270"/>
                  </a:lnTo>
                  <a:lnTo>
                    <a:pt x="403" y="2245"/>
                  </a:lnTo>
                  <a:lnTo>
                    <a:pt x="333" y="2226"/>
                  </a:lnTo>
                  <a:lnTo>
                    <a:pt x="333" y="2226"/>
                  </a:lnTo>
                  <a:lnTo>
                    <a:pt x="333" y="2226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2909160" y="1809000"/>
              <a:ext cx="282240" cy="218880"/>
            </a:xfrm>
            <a:custGeom>
              <a:avLst/>
              <a:gdLst/>
              <a:ahLst/>
              <a:rect l="l" t="t" r="r" b="b"/>
              <a:pathLst>
                <a:path w="1604" h="1612">
                  <a:moveTo>
                    <a:pt x="45" y="935"/>
                  </a:moveTo>
                  <a:lnTo>
                    <a:pt x="21" y="751"/>
                  </a:lnTo>
                  <a:lnTo>
                    <a:pt x="0" y="582"/>
                  </a:lnTo>
                  <a:lnTo>
                    <a:pt x="64" y="295"/>
                  </a:lnTo>
                  <a:lnTo>
                    <a:pt x="252" y="222"/>
                  </a:lnTo>
                  <a:lnTo>
                    <a:pt x="1098" y="0"/>
                  </a:lnTo>
                  <a:lnTo>
                    <a:pt x="1357" y="6"/>
                  </a:lnTo>
                  <a:lnTo>
                    <a:pt x="1551" y="141"/>
                  </a:lnTo>
                  <a:lnTo>
                    <a:pt x="1604" y="410"/>
                  </a:lnTo>
                  <a:lnTo>
                    <a:pt x="1427" y="1465"/>
                  </a:lnTo>
                  <a:lnTo>
                    <a:pt x="233" y="1612"/>
                  </a:lnTo>
                  <a:lnTo>
                    <a:pt x="175" y="1519"/>
                  </a:lnTo>
                  <a:lnTo>
                    <a:pt x="45" y="935"/>
                  </a:lnTo>
                  <a:lnTo>
                    <a:pt x="45" y="935"/>
                  </a:lnTo>
                  <a:lnTo>
                    <a:pt x="45" y="935"/>
                  </a:lnTo>
                  <a:close/>
                </a:path>
              </a:pathLst>
            </a:custGeom>
            <a:solidFill>
              <a:srgbClr val="a5b8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2951280" y="2089800"/>
              <a:ext cx="249480" cy="36000"/>
            </a:xfrm>
            <a:custGeom>
              <a:avLst/>
              <a:gdLst/>
              <a:ahLst/>
              <a:rect l="l" t="t" r="r" b="b"/>
              <a:pathLst>
                <a:path w="1418" h="266">
                  <a:moveTo>
                    <a:pt x="0" y="228"/>
                  </a:moveTo>
                  <a:lnTo>
                    <a:pt x="46" y="175"/>
                  </a:lnTo>
                  <a:lnTo>
                    <a:pt x="333" y="101"/>
                  </a:lnTo>
                  <a:lnTo>
                    <a:pt x="871" y="10"/>
                  </a:lnTo>
                  <a:lnTo>
                    <a:pt x="1211" y="25"/>
                  </a:lnTo>
                  <a:lnTo>
                    <a:pt x="1418" y="0"/>
                  </a:lnTo>
                  <a:lnTo>
                    <a:pt x="1384" y="160"/>
                  </a:lnTo>
                  <a:lnTo>
                    <a:pt x="818" y="167"/>
                  </a:lnTo>
                  <a:lnTo>
                    <a:pt x="310" y="205"/>
                  </a:lnTo>
                  <a:lnTo>
                    <a:pt x="61" y="266"/>
                  </a:lnTo>
                  <a:lnTo>
                    <a:pt x="0" y="228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2930760" y="1844280"/>
              <a:ext cx="102240" cy="69120"/>
            </a:xfrm>
            <a:custGeom>
              <a:avLst/>
              <a:gdLst/>
              <a:ahLst/>
              <a:rect l="l" t="t" r="r" b="b"/>
              <a:pathLst>
                <a:path w="582" h="512">
                  <a:moveTo>
                    <a:pt x="399" y="18"/>
                  </a:moveTo>
                  <a:lnTo>
                    <a:pt x="240" y="59"/>
                  </a:lnTo>
                  <a:lnTo>
                    <a:pt x="99" y="130"/>
                  </a:lnTo>
                  <a:lnTo>
                    <a:pt x="34" y="219"/>
                  </a:lnTo>
                  <a:lnTo>
                    <a:pt x="0" y="318"/>
                  </a:lnTo>
                  <a:lnTo>
                    <a:pt x="52" y="512"/>
                  </a:lnTo>
                  <a:lnTo>
                    <a:pt x="164" y="312"/>
                  </a:lnTo>
                  <a:lnTo>
                    <a:pt x="323" y="130"/>
                  </a:lnTo>
                  <a:lnTo>
                    <a:pt x="582" y="0"/>
                  </a:lnTo>
                  <a:lnTo>
                    <a:pt x="399" y="18"/>
                  </a:lnTo>
                  <a:lnTo>
                    <a:pt x="399" y="18"/>
                  </a:lnTo>
                  <a:lnTo>
                    <a:pt x="399" y="18"/>
                  </a:lnTo>
                  <a:close/>
                </a:path>
              </a:pathLst>
            </a:custGeom>
            <a:solidFill>
              <a:srgbClr val="dbe5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088080" y="1929600"/>
              <a:ext cx="63720" cy="65880"/>
            </a:xfrm>
            <a:custGeom>
              <a:avLst/>
              <a:gdLst/>
              <a:ahLst/>
              <a:rect l="l" t="t" r="r" b="b"/>
              <a:pathLst>
                <a:path w="365" h="482">
                  <a:moveTo>
                    <a:pt x="281" y="64"/>
                  </a:moveTo>
                  <a:lnTo>
                    <a:pt x="199" y="249"/>
                  </a:lnTo>
                  <a:lnTo>
                    <a:pt x="0" y="454"/>
                  </a:lnTo>
                  <a:lnTo>
                    <a:pt x="152" y="482"/>
                  </a:lnTo>
                  <a:lnTo>
                    <a:pt x="281" y="418"/>
                  </a:lnTo>
                  <a:lnTo>
                    <a:pt x="323" y="260"/>
                  </a:lnTo>
                  <a:lnTo>
                    <a:pt x="365" y="0"/>
                  </a:lnTo>
                  <a:lnTo>
                    <a:pt x="281" y="64"/>
                  </a:lnTo>
                  <a:lnTo>
                    <a:pt x="281" y="64"/>
                  </a:lnTo>
                  <a:lnTo>
                    <a:pt x="281" y="64"/>
                  </a:lnTo>
                  <a:close/>
                </a:path>
              </a:pathLst>
            </a:custGeom>
            <a:solidFill>
              <a:srgbClr val="6d76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2752920" y="2170080"/>
              <a:ext cx="546840" cy="91080"/>
            </a:xfrm>
            <a:custGeom>
              <a:avLst/>
              <a:gdLst/>
              <a:ahLst/>
              <a:rect l="l" t="t" r="r" b="b"/>
              <a:pathLst>
                <a:path w="3108" h="669">
                  <a:moveTo>
                    <a:pt x="485" y="0"/>
                  </a:moveTo>
                  <a:lnTo>
                    <a:pt x="395" y="54"/>
                  </a:lnTo>
                  <a:lnTo>
                    <a:pt x="102" y="432"/>
                  </a:lnTo>
                  <a:lnTo>
                    <a:pt x="0" y="485"/>
                  </a:lnTo>
                  <a:lnTo>
                    <a:pt x="89" y="626"/>
                  </a:lnTo>
                  <a:lnTo>
                    <a:pt x="758" y="592"/>
                  </a:lnTo>
                  <a:lnTo>
                    <a:pt x="2897" y="669"/>
                  </a:lnTo>
                  <a:lnTo>
                    <a:pt x="3108" y="561"/>
                  </a:lnTo>
                  <a:lnTo>
                    <a:pt x="2625" y="508"/>
                  </a:lnTo>
                  <a:lnTo>
                    <a:pt x="3019" y="477"/>
                  </a:lnTo>
                  <a:lnTo>
                    <a:pt x="2927" y="358"/>
                  </a:lnTo>
                  <a:lnTo>
                    <a:pt x="2770" y="137"/>
                  </a:lnTo>
                  <a:lnTo>
                    <a:pt x="1597" y="76"/>
                  </a:lnTo>
                  <a:lnTo>
                    <a:pt x="599" y="8"/>
                  </a:lnTo>
                  <a:lnTo>
                    <a:pt x="485" y="0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860920" y="2117520"/>
              <a:ext cx="418680" cy="88920"/>
            </a:xfrm>
            <a:custGeom>
              <a:avLst/>
              <a:gdLst/>
              <a:ahLst/>
              <a:rect l="l" t="t" r="r" b="b"/>
              <a:pathLst>
                <a:path w="2382" h="653">
                  <a:moveTo>
                    <a:pt x="0" y="334"/>
                  </a:moveTo>
                  <a:lnTo>
                    <a:pt x="15" y="154"/>
                  </a:lnTo>
                  <a:lnTo>
                    <a:pt x="203" y="146"/>
                  </a:lnTo>
                  <a:lnTo>
                    <a:pt x="1028" y="78"/>
                  </a:lnTo>
                  <a:lnTo>
                    <a:pt x="1369" y="39"/>
                  </a:lnTo>
                  <a:lnTo>
                    <a:pt x="2064" y="32"/>
                  </a:lnTo>
                  <a:lnTo>
                    <a:pt x="2306" y="24"/>
                  </a:lnTo>
                  <a:lnTo>
                    <a:pt x="2382" y="0"/>
                  </a:lnTo>
                  <a:lnTo>
                    <a:pt x="2336" y="653"/>
                  </a:lnTo>
                  <a:lnTo>
                    <a:pt x="2217" y="452"/>
                  </a:lnTo>
                  <a:lnTo>
                    <a:pt x="0" y="334"/>
                  </a:lnTo>
                  <a:lnTo>
                    <a:pt x="0" y="334"/>
                  </a:lnTo>
                  <a:lnTo>
                    <a:pt x="0" y="334"/>
                  </a:lnTo>
                  <a:close/>
                </a:path>
              </a:pathLst>
            </a:custGeom>
            <a:solidFill>
              <a:srgbClr val="e8d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2970000" y="2075400"/>
              <a:ext cx="227520" cy="38880"/>
            </a:xfrm>
            <a:custGeom>
              <a:avLst/>
              <a:gdLst/>
              <a:ahLst/>
              <a:rect l="l" t="t" r="r" b="b"/>
              <a:pathLst>
                <a:path w="1292" h="287">
                  <a:moveTo>
                    <a:pt x="64" y="0"/>
                  </a:moveTo>
                  <a:lnTo>
                    <a:pt x="68" y="91"/>
                  </a:lnTo>
                  <a:lnTo>
                    <a:pt x="0" y="226"/>
                  </a:lnTo>
                  <a:lnTo>
                    <a:pt x="401" y="137"/>
                  </a:lnTo>
                  <a:lnTo>
                    <a:pt x="604" y="173"/>
                  </a:lnTo>
                  <a:lnTo>
                    <a:pt x="378" y="287"/>
                  </a:lnTo>
                  <a:lnTo>
                    <a:pt x="1292" y="226"/>
                  </a:lnTo>
                  <a:lnTo>
                    <a:pt x="1273" y="104"/>
                  </a:lnTo>
                  <a:lnTo>
                    <a:pt x="1066" y="129"/>
                  </a:lnTo>
                  <a:lnTo>
                    <a:pt x="960" y="15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149640" y="1821240"/>
              <a:ext cx="106200" cy="262080"/>
            </a:xfrm>
            <a:custGeom>
              <a:avLst/>
              <a:gdLst/>
              <a:ahLst/>
              <a:rect l="l" t="t" r="r" b="b"/>
              <a:pathLst>
                <a:path w="604" h="1928">
                  <a:moveTo>
                    <a:pt x="72" y="1840"/>
                  </a:moveTo>
                  <a:lnTo>
                    <a:pt x="241" y="1787"/>
                  </a:lnTo>
                  <a:lnTo>
                    <a:pt x="492" y="348"/>
                  </a:lnTo>
                  <a:lnTo>
                    <a:pt x="574" y="0"/>
                  </a:lnTo>
                  <a:lnTo>
                    <a:pt x="604" y="107"/>
                  </a:lnTo>
                  <a:lnTo>
                    <a:pt x="536" y="850"/>
                  </a:lnTo>
                  <a:lnTo>
                    <a:pt x="416" y="1772"/>
                  </a:lnTo>
                  <a:lnTo>
                    <a:pt x="389" y="1859"/>
                  </a:lnTo>
                  <a:lnTo>
                    <a:pt x="165" y="1928"/>
                  </a:lnTo>
                  <a:lnTo>
                    <a:pt x="0" y="1886"/>
                  </a:lnTo>
                  <a:lnTo>
                    <a:pt x="72" y="1840"/>
                  </a:lnTo>
                  <a:lnTo>
                    <a:pt x="72" y="1840"/>
                  </a:lnTo>
                  <a:lnTo>
                    <a:pt x="72" y="1840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2952720" y="2034360"/>
              <a:ext cx="202320" cy="25560"/>
            </a:xfrm>
            <a:custGeom>
              <a:avLst/>
              <a:gdLst/>
              <a:ahLst/>
              <a:rect l="l" t="t" r="r" b="b"/>
              <a:pathLst>
                <a:path w="1152" h="190">
                  <a:moveTo>
                    <a:pt x="0" y="103"/>
                  </a:moveTo>
                  <a:lnTo>
                    <a:pt x="34" y="190"/>
                  </a:lnTo>
                  <a:lnTo>
                    <a:pt x="114" y="151"/>
                  </a:lnTo>
                  <a:lnTo>
                    <a:pt x="1152" y="59"/>
                  </a:lnTo>
                  <a:lnTo>
                    <a:pt x="1152" y="12"/>
                  </a:lnTo>
                  <a:lnTo>
                    <a:pt x="696" y="0"/>
                  </a:lnTo>
                  <a:lnTo>
                    <a:pt x="0" y="103"/>
                  </a:lnTo>
                  <a:lnTo>
                    <a:pt x="0" y="103"/>
                  </a:lnTo>
                  <a:lnTo>
                    <a:pt x="0" y="103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2885040" y="1792440"/>
              <a:ext cx="313200" cy="226800"/>
            </a:xfrm>
            <a:custGeom>
              <a:avLst/>
              <a:gdLst/>
              <a:ahLst/>
              <a:rect l="l" t="t" r="r" b="b"/>
              <a:pathLst>
                <a:path w="1783" h="1669">
                  <a:moveTo>
                    <a:pt x="296" y="1669"/>
                  </a:moveTo>
                  <a:lnTo>
                    <a:pt x="23" y="734"/>
                  </a:lnTo>
                  <a:lnTo>
                    <a:pt x="0" y="508"/>
                  </a:lnTo>
                  <a:lnTo>
                    <a:pt x="38" y="409"/>
                  </a:lnTo>
                  <a:lnTo>
                    <a:pt x="196" y="310"/>
                  </a:lnTo>
                  <a:lnTo>
                    <a:pt x="861" y="129"/>
                  </a:lnTo>
                  <a:lnTo>
                    <a:pt x="1595" y="8"/>
                  </a:lnTo>
                  <a:lnTo>
                    <a:pt x="1753" y="0"/>
                  </a:lnTo>
                  <a:lnTo>
                    <a:pt x="1783" y="76"/>
                  </a:lnTo>
                  <a:lnTo>
                    <a:pt x="1730" y="485"/>
                  </a:lnTo>
                  <a:lnTo>
                    <a:pt x="1618" y="257"/>
                  </a:lnTo>
                  <a:lnTo>
                    <a:pt x="1367" y="114"/>
                  </a:lnTo>
                  <a:lnTo>
                    <a:pt x="990" y="160"/>
                  </a:lnTo>
                  <a:lnTo>
                    <a:pt x="310" y="409"/>
                  </a:lnTo>
                  <a:lnTo>
                    <a:pt x="165" y="553"/>
                  </a:lnTo>
                  <a:lnTo>
                    <a:pt x="173" y="932"/>
                  </a:lnTo>
                  <a:lnTo>
                    <a:pt x="317" y="1348"/>
                  </a:lnTo>
                  <a:lnTo>
                    <a:pt x="348" y="1559"/>
                  </a:lnTo>
                  <a:lnTo>
                    <a:pt x="296" y="1669"/>
                  </a:lnTo>
                  <a:lnTo>
                    <a:pt x="296" y="1669"/>
                  </a:lnTo>
                  <a:lnTo>
                    <a:pt x="296" y="1669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128040" y="2131920"/>
              <a:ext cx="134640" cy="37800"/>
            </a:xfrm>
            <a:custGeom>
              <a:avLst/>
              <a:gdLst/>
              <a:ahLst/>
              <a:rect l="l" t="t" r="r" b="b"/>
              <a:pathLst>
                <a:path w="766" h="279">
                  <a:moveTo>
                    <a:pt x="0" y="268"/>
                  </a:moveTo>
                  <a:lnTo>
                    <a:pt x="61" y="0"/>
                  </a:lnTo>
                  <a:lnTo>
                    <a:pt x="766" y="28"/>
                  </a:lnTo>
                  <a:lnTo>
                    <a:pt x="741" y="160"/>
                  </a:lnTo>
                  <a:lnTo>
                    <a:pt x="703" y="84"/>
                  </a:lnTo>
                  <a:lnTo>
                    <a:pt x="175" y="114"/>
                  </a:lnTo>
                  <a:lnTo>
                    <a:pt x="76" y="279"/>
                  </a:lnTo>
                  <a:lnTo>
                    <a:pt x="0" y="268"/>
                  </a:lnTo>
                  <a:lnTo>
                    <a:pt x="0" y="268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179520" y="2149920"/>
              <a:ext cx="65880" cy="23040"/>
            </a:xfrm>
            <a:custGeom>
              <a:avLst/>
              <a:gdLst/>
              <a:ahLst/>
              <a:rect l="l" t="t" r="r" b="b"/>
              <a:pathLst>
                <a:path w="374" h="169">
                  <a:moveTo>
                    <a:pt x="0" y="124"/>
                  </a:moveTo>
                  <a:lnTo>
                    <a:pt x="62" y="164"/>
                  </a:lnTo>
                  <a:lnTo>
                    <a:pt x="203" y="169"/>
                  </a:lnTo>
                  <a:lnTo>
                    <a:pt x="207" y="112"/>
                  </a:lnTo>
                  <a:lnTo>
                    <a:pt x="374" y="15"/>
                  </a:lnTo>
                  <a:lnTo>
                    <a:pt x="108" y="0"/>
                  </a:lnTo>
                  <a:lnTo>
                    <a:pt x="47" y="84"/>
                  </a:lnTo>
                  <a:lnTo>
                    <a:pt x="0" y="124"/>
                  </a:lnTo>
                  <a:lnTo>
                    <a:pt x="0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2747880" y="2235240"/>
              <a:ext cx="545400" cy="27000"/>
            </a:xfrm>
            <a:custGeom>
              <a:avLst/>
              <a:gdLst/>
              <a:ahLst/>
              <a:rect l="l" t="t" r="r" b="b"/>
              <a:pathLst>
                <a:path w="3099" h="200">
                  <a:moveTo>
                    <a:pt x="76" y="132"/>
                  </a:moveTo>
                  <a:lnTo>
                    <a:pt x="0" y="46"/>
                  </a:lnTo>
                  <a:lnTo>
                    <a:pt x="227" y="0"/>
                  </a:lnTo>
                  <a:lnTo>
                    <a:pt x="3025" y="54"/>
                  </a:lnTo>
                  <a:lnTo>
                    <a:pt x="3099" y="113"/>
                  </a:lnTo>
                  <a:lnTo>
                    <a:pt x="2981" y="200"/>
                  </a:lnTo>
                  <a:lnTo>
                    <a:pt x="1481" y="153"/>
                  </a:lnTo>
                  <a:lnTo>
                    <a:pt x="493" y="115"/>
                  </a:lnTo>
                  <a:lnTo>
                    <a:pt x="179" y="173"/>
                  </a:lnTo>
                  <a:lnTo>
                    <a:pt x="76" y="132"/>
                  </a:lnTo>
                  <a:lnTo>
                    <a:pt x="76" y="132"/>
                  </a:lnTo>
                  <a:lnTo>
                    <a:pt x="76" y="132"/>
                  </a:lnTo>
                  <a:close/>
                </a:path>
              </a:pathLst>
            </a:custGeom>
            <a:solidFill>
              <a:srgbClr val="a3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2854440" y="2104560"/>
              <a:ext cx="432000" cy="26640"/>
            </a:xfrm>
            <a:custGeom>
              <a:avLst/>
              <a:gdLst/>
              <a:ahLst/>
              <a:rect l="l" t="t" r="r" b="b"/>
              <a:pathLst>
                <a:path w="2456" h="197">
                  <a:moveTo>
                    <a:pt x="15" y="167"/>
                  </a:moveTo>
                  <a:lnTo>
                    <a:pt x="226" y="144"/>
                  </a:lnTo>
                  <a:lnTo>
                    <a:pt x="437" y="123"/>
                  </a:lnTo>
                  <a:lnTo>
                    <a:pt x="713" y="93"/>
                  </a:lnTo>
                  <a:lnTo>
                    <a:pt x="842" y="68"/>
                  </a:lnTo>
                  <a:lnTo>
                    <a:pt x="988" y="38"/>
                  </a:lnTo>
                  <a:lnTo>
                    <a:pt x="1237" y="19"/>
                  </a:lnTo>
                  <a:lnTo>
                    <a:pt x="1696" y="0"/>
                  </a:lnTo>
                  <a:lnTo>
                    <a:pt x="2156" y="5"/>
                  </a:lnTo>
                  <a:lnTo>
                    <a:pt x="2251" y="5"/>
                  </a:lnTo>
                  <a:lnTo>
                    <a:pt x="2424" y="17"/>
                  </a:lnTo>
                  <a:lnTo>
                    <a:pt x="2448" y="30"/>
                  </a:lnTo>
                  <a:lnTo>
                    <a:pt x="2456" y="57"/>
                  </a:lnTo>
                  <a:lnTo>
                    <a:pt x="2445" y="79"/>
                  </a:lnTo>
                  <a:lnTo>
                    <a:pt x="2416" y="87"/>
                  </a:lnTo>
                  <a:lnTo>
                    <a:pt x="2251" y="76"/>
                  </a:lnTo>
                  <a:lnTo>
                    <a:pt x="2156" y="76"/>
                  </a:lnTo>
                  <a:lnTo>
                    <a:pt x="1699" y="68"/>
                  </a:lnTo>
                  <a:lnTo>
                    <a:pt x="1241" y="87"/>
                  </a:lnTo>
                  <a:lnTo>
                    <a:pt x="1002" y="104"/>
                  </a:lnTo>
                  <a:lnTo>
                    <a:pt x="853" y="133"/>
                  </a:lnTo>
                  <a:lnTo>
                    <a:pt x="720" y="152"/>
                  </a:lnTo>
                  <a:lnTo>
                    <a:pt x="441" y="174"/>
                  </a:lnTo>
                  <a:lnTo>
                    <a:pt x="17" y="197"/>
                  </a:lnTo>
                  <a:lnTo>
                    <a:pt x="0" y="182"/>
                  </a:lnTo>
                  <a:lnTo>
                    <a:pt x="15" y="167"/>
                  </a:lnTo>
                  <a:lnTo>
                    <a:pt x="15" y="167"/>
                  </a:lnTo>
                  <a:lnTo>
                    <a:pt x="15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64120" y="2107440"/>
              <a:ext cx="27360" cy="102240"/>
            </a:xfrm>
            <a:custGeom>
              <a:avLst/>
              <a:gdLst/>
              <a:ahLst/>
              <a:rect l="l" t="t" r="r" b="b"/>
              <a:pathLst>
                <a:path w="156" h="751">
                  <a:moveTo>
                    <a:pt x="156" y="35"/>
                  </a:moveTo>
                  <a:lnTo>
                    <a:pt x="138" y="244"/>
                  </a:lnTo>
                  <a:lnTo>
                    <a:pt x="106" y="453"/>
                  </a:lnTo>
                  <a:lnTo>
                    <a:pt x="85" y="586"/>
                  </a:lnTo>
                  <a:lnTo>
                    <a:pt x="60" y="751"/>
                  </a:lnTo>
                  <a:lnTo>
                    <a:pt x="0" y="645"/>
                  </a:lnTo>
                  <a:lnTo>
                    <a:pt x="17" y="555"/>
                  </a:lnTo>
                  <a:lnTo>
                    <a:pt x="49" y="443"/>
                  </a:lnTo>
                  <a:lnTo>
                    <a:pt x="83" y="35"/>
                  </a:lnTo>
                  <a:lnTo>
                    <a:pt x="95" y="8"/>
                  </a:lnTo>
                  <a:lnTo>
                    <a:pt x="119" y="0"/>
                  </a:lnTo>
                  <a:lnTo>
                    <a:pt x="156" y="35"/>
                  </a:lnTo>
                  <a:lnTo>
                    <a:pt x="1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124800" y="2134800"/>
              <a:ext cx="12600" cy="34200"/>
            </a:xfrm>
            <a:custGeom>
              <a:avLst/>
              <a:gdLst/>
              <a:ahLst/>
              <a:rect l="l" t="t" r="r" b="b"/>
              <a:pathLst>
                <a:path w="70" h="253">
                  <a:moveTo>
                    <a:pt x="70" y="30"/>
                  </a:moveTo>
                  <a:lnTo>
                    <a:pt x="51" y="97"/>
                  </a:lnTo>
                  <a:lnTo>
                    <a:pt x="32" y="239"/>
                  </a:lnTo>
                  <a:lnTo>
                    <a:pt x="17" y="253"/>
                  </a:lnTo>
                  <a:lnTo>
                    <a:pt x="4" y="238"/>
                  </a:lnTo>
                  <a:lnTo>
                    <a:pt x="0" y="93"/>
                  </a:lnTo>
                  <a:lnTo>
                    <a:pt x="26" y="13"/>
                  </a:lnTo>
                  <a:lnTo>
                    <a:pt x="40" y="0"/>
                  </a:lnTo>
                  <a:lnTo>
                    <a:pt x="57" y="0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7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129840" y="2130120"/>
              <a:ext cx="135000" cy="8640"/>
            </a:xfrm>
            <a:custGeom>
              <a:avLst/>
              <a:gdLst/>
              <a:ahLst/>
              <a:rect l="l" t="t" r="r" b="b"/>
              <a:pathLst>
                <a:path w="768" h="64">
                  <a:moveTo>
                    <a:pt x="21" y="19"/>
                  </a:moveTo>
                  <a:lnTo>
                    <a:pt x="274" y="0"/>
                  </a:lnTo>
                  <a:lnTo>
                    <a:pt x="527" y="7"/>
                  </a:lnTo>
                  <a:lnTo>
                    <a:pt x="755" y="36"/>
                  </a:lnTo>
                  <a:lnTo>
                    <a:pt x="768" y="51"/>
                  </a:lnTo>
                  <a:lnTo>
                    <a:pt x="753" y="64"/>
                  </a:lnTo>
                  <a:lnTo>
                    <a:pt x="525" y="64"/>
                  </a:lnTo>
                  <a:lnTo>
                    <a:pt x="276" y="51"/>
                  </a:lnTo>
                  <a:lnTo>
                    <a:pt x="29" y="64"/>
                  </a:lnTo>
                  <a:lnTo>
                    <a:pt x="0" y="45"/>
                  </a:lnTo>
                  <a:lnTo>
                    <a:pt x="4" y="28"/>
                  </a:lnTo>
                  <a:lnTo>
                    <a:pt x="21" y="19"/>
                  </a:lnTo>
                  <a:lnTo>
                    <a:pt x="21" y="19"/>
                  </a:lnTo>
                  <a:lnTo>
                    <a:pt x="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176640" y="2148480"/>
              <a:ext cx="76320" cy="16920"/>
            </a:xfrm>
            <a:custGeom>
              <a:avLst/>
              <a:gdLst/>
              <a:ahLst/>
              <a:rect l="l" t="t" r="r" b="b"/>
              <a:pathLst>
                <a:path w="436" h="125">
                  <a:moveTo>
                    <a:pt x="40" y="30"/>
                  </a:moveTo>
                  <a:lnTo>
                    <a:pt x="31" y="91"/>
                  </a:lnTo>
                  <a:lnTo>
                    <a:pt x="73" y="70"/>
                  </a:lnTo>
                  <a:lnTo>
                    <a:pt x="94" y="30"/>
                  </a:lnTo>
                  <a:lnTo>
                    <a:pt x="101" y="9"/>
                  </a:lnTo>
                  <a:lnTo>
                    <a:pt x="122" y="1"/>
                  </a:lnTo>
                  <a:lnTo>
                    <a:pt x="196" y="0"/>
                  </a:lnTo>
                  <a:lnTo>
                    <a:pt x="345" y="0"/>
                  </a:lnTo>
                  <a:lnTo>
                    <a:pt x="421" y="17"/>
                  </a:lnTo>
                  <a:lnTo>
                    <a:pt x="436" y="30"/>
                  </a:lnTo>
                  <a:lnTo>
                    <a:pt x="421" y="43"/>
                  </a:lnTo>
                  <a:lnTo>
                    <a:pt x="345" y="66"/>
                  </a:lnTo>
                  <a:lnTo>
                    <a:pt x="196" y="66"/>
                  </a:lnTo>
                  <a:lnTo>
                    <a:pt x="145" y="64"/>
                  </a:lnTo>
                  <a:lnTo>
                    <a:pt x="124" y="91"/>
                  </a:lnTo>
                  <a:lnTo>
                    <a:pt x="92" y="110"/>
                  </a:lnTo>
                  <a:lnTo>
                    <a:pt x="16" y="125"/>
                  </a:lnTo>
                  <a:lnTo>
                    <a:pt x="0" y="112"/>
                  </a:lnTo>
                  <a:lnTo>
                    <a:pt x="14" y="19"/>
                  </a:lnTo>
                  <a:lnTo>
                    <a:pt x="33" y="11"/>
                  </a:lnTo>
                  <a:lnTo>
                    <a:pt x="40" y="30"/>
                  </a:lnTo>
                  <a:lnTo>
                    <a:pt x="40" y="30"/>
                  </a:lnTo>
                  <a:lnTo>
                    <a:pt x="4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2828160" y="2158920"/>
              <a:ext cx="412560" cy="22320"/>
            </a:xfrm>
            <a:custGeom>
              <a:avLst/>
              <a:gdLst/>
              <a:ahLst/>
              <a:rect l="l" t="t" r="r" b="b"/>
              <a:pathLst>
                <a:path w="2345" h="165">
                  <a:moveTo>
                    <a:pt x="15" y="0"/>
                  </a:moveTo>
                  <a:lnTo>
                    <a:pt x="595" y="19"/>
                  </a:lnTo>
                  <a:lnTo>
                    <a:pt x="1703" y="64"/>
                  </a:lnTo>
                  <a:lnTo>
                    <a:pt x="2024" y="76"/>
                  </a:lnTo>
                  <a:lnTo>
                    <a:pt x="2311" y="95"/>
                  </a:lnTo>
                  <a:lnTo>
                    <a:pt x="2338" y="104"/>
                  </a:lnTo>
                  <a:lnTo>
                    <a:pt x="2345" y="129"/>
                  </a:lnTo>
                  <a:lnTo>
                    <a:pt x="2338" y="154"/>
                  </a:lnTo>
                  <a:lnTo>
                    <a:pt x="2311" y="165"/>
                  </a:lnTo>
                  <a:lnTo>
                    <a:pt x="2019" y="146"/>
                  </a:lnTo>
                  <a:lnTo>
                    <a:pt x="1697" y="135"/>
                  </a:lnTo>
                  <a:lnTo>
                    <a:pt x="591" y="70"/>
                  </a:lnTo>
                  <a:lnTo>
                    <a:pt x="302" y="43"/>
                  </a:lnTo>
                  <a:lnTo>
                    <a:pt x="15" y="28"/>
                  </a:lnTo>
                  <a:lnTo>
                    <a:pt x="0" y="13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766600" y="2226960"/>
              <a:ext cx="375840" cy="17280"/>
            </a:xfrm>
            <a:custGeom>
              <a:avLst/>
              <a:gdLst/>
              <a:ahLst/>
              <a:rect l="l" t="t" r="r" b="b"/>
              <a:pathLst>
                <a:path w="2137" h="127">
                  <a:moveTo>
                    <a:pt x="23" y="5"/>
                  </a:moveTo>
                  <a:lnTo>
                    <a:pt x="409" y="0"/>
                  </a:lnTo>
                  <a:lnTo>
                    <a:pt x="1047" y="22"/>
                  </a:lnTo>
                  <a:lnTo>
                    <a:pt x="1346" y="39"/>
                  </a:lnTo>
                  <a:lnTo>
                    <a:pt x="1684" y="55"/>
                  </a:lnTo>
                  <a:lnTo>
                    <a:pt x="1905" y="70"/>
                  </a:lnTo>
                  <a:lnTo>
                    <a:pt x="2123" y="81"/>
                  </a:lnTo>
                  <a:lnTo>
                    <a:pt x="2137" y="95"/>
                  </a:lnTo>
                  <a:lnTo>
                    <a:pt x="2123" y="110"/>
                  </a:lnTo>
                  <a:lnTo>
                    <a:pt x="1903" y="119"/>
                  </a:lnTo>
                  <a:lnTo>
                    <a:pt x="1682" y="127"/>
                  </a:lnTo>
                  <a:lnTo>
                    <a:pt x="1045" y="95"/>
                  </a:lnTo>
                  <a:lnTo>
                    <a:pt x="747" y="79"/>
                  </a:lnTo>
                  <a:lnTo>
                    <a:pt x="409" y="74"/>
                  </a:lnTo>
                  <a:lnTo>
                    <a:pt x="24" y="55"/>
                  </a:lnTo>
                  <a:lnTo>
                    <a:pt x="0" y="30"/>
                  </a:lnTo>
                  <a:lnTo>
                    <a:pt x="5" y="13"/>
                  </a:lnTo>
                  <a:lnTo>
                    <a:pt x="23" y="5"/>
                  </a:lnTo>
                  <a:lnTo>
                    <a:pt x="23" y="5"/>
                  </a:lnTo>
                  <a:lnTo>
                    <a:pt x="23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52240" y="2178000"/>
              <a:ext cx="49680" cy="57240"/>
            </a:xfrm>
            <a:custGeom>
              <a:avLst/>
              <a:gdLst/>
              <a:ahLst/>
              <a:rect l="l" t="t" r="r" b="b"/>
              <a:pathLst>
                <a:path w="285" h="422">
                  <a:moveTo>
                    <a:pt x="25" y="8"/>
                  </a:moveTo>
                  <a:lnTo>
                    <a:pt x="53" y="69"/>
                  </a:lnTo>
                  <a:lnTo>
                    <a:pt x="82" y="120"/>
                  </a:lnTo>
                  <a:lnTo>
                    <a:pt x="116" y="170"/>
                  </a:lnTo>
                  <a:lnTo>
                    <a:pt x="160" y="223"/>
                  </a:lnTo>
                  <a:lnTo>
                    <a:pt x="285" y="390"/>
                  </a:lnTo>
                  <a:lnTo>
                    <a:pt x="278" y="415"/>
                  </a:lnTo>
                  <a:lnTo>
                    <a:pt x="257" y="422"/>
                  </a:lnTo>
                  <a:lnTo>
                    <a:pt x="225" y="394"/>
                  </a:lnTo>
                  <a:lnTo>
                    <a:pt x="213" y="350"/>
                  </a:lnTo>
                  <a:lnTo>
                    <a:pt x="188" y="316"/>
                  </a:lnTo>
                  <a:lnTo>
                    <a:pt x="124" y="251"/>
                  </a:lnTo>
                  <a:lnTo>
                    <a:pt x="52" y="141"/>
                  </a:lnTo>
                  <a:lnTo>
                    <a:pt x="0" y="19"/>
                  </a:lnTo>
                  <a:lnTo>
                    <a:pt x="8" y="0"/>
                  </a:lnTo>
                  <a:lnTo>
                    <a:pt x="25" y="8"/>
                  </a:lnTo>
                  <a:lnTo>
                    <a:pt x="25" y="8"/>
                  </a:lnTo>
                  <a:lnTo>
                    <a:pt x="2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74920" y="2241000"/>
              <a:ext cx="28800" cy="21600"/>
            </a:xfrm>
            <a:custGeom>
              <a:avLst/>
              <a:gdLst/>
              <a:ahLst/>
              <a:rect l="l" t="t" r="r" b="b"/>
              <a:pathLst>
                <a:path w="164" h="162">
                  <a:moveTo>
                    <a:pt x="164" y="21"/>
                  </a:moveTo>
                  <a:lnTo>
                    <a:pt x="135" y="61"/>
                  </a:lnTo>
                  <a:lnTo>
                    <a:pt x="107" y="95"/>
                  </a:lnTo>
                  <a:lnTo>
                    <a:pt x="42" y="162"/>
                  </a:lnTo>
                  <a:lnTo>
                    <a:pt x="6" y="162"/>
                  </a:lnTo>
                  <a:lnTo>
                    <a:pt x="0" y="147"/>
                  </a:lnTo>
                  <a:lnTo>
                    <a:pt x="6" y="128"/>
                  </a:lnTo>
                  <a:lnTo>
                    <a:pt x="139" y="4"/>
                  </a:lnTo>
                  <a:lnTo>
                    <a:pt x="160" y="0"/>
                  </a:lnTo>
                  <a:lnTo>
                    <a:pt x="164" y="21"/>
                  </a:lnTo>
                  <a:lnTo>
                    <a:pt x="164" y="21"/>
                  </a:lnTo>
                  <a:lnTo>
                    <a:pt x="16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756880" y="2248920"/>
              <a:ext cx="527400" cy="16560"/>
            </a:xfrm>
            <a:custGeom>
              <a:avLst/>
              <a:gdLst/>
              <a:ahLst/>
              <a:rect l="l" t="t" r="r" b="b"/>
              <a:pathLst>
                <a:path w="3000" h="122">
                  <a:moveTo>
                    <a:pt x="24" y="21"/>
                  </a:moveTo>
                  <a:lnTo>
                    <a:pt x="190" y="34"/>
                  </a:lnTo>
                  <a:lnTo>
                    <a:pt x="323" y="15"/>
                  </a:lnTo>
                  <a:lnTo>
                    <a:pt x="439" y="4"/>
                  </a:lnTo>
                  <a:lnTo>
                    <a:pt x="688" y="0"/>
                  </a:lnTo>
                  <a:lnTo>
                    <a:pt x="792" y="0"/>
                  </a:lnTo>
                  <a:lnTo>
                    <a:pt x="1891" y="21"/>
                  </a:lnTo>
                  <a:lnTo>
                    <a:pt x="1983" y="23"/>
                  </a:lnTo>
                  <a:lnTo>
                    <a:pt x="2030" y="25"/>
                  </a:lnTo>
                  <a:lnTo>
                    <a:pt x="2300" y="32"/>
                  </a:lnTo>
                  <a:lnTo>
                    <a:pt x="2346" y="40"/>
                  </a:lnTo>
                  <a:lnTo>
                    <a:pt x="2927" y="61"/>
                  </a:lnTo>
                  <a:lnTo>
                    <a:pt x="3000" y="61"/>
                  </a:lnTo>
                  <a:lnTo>
                    <a:pt x="2973" y="112"/>
                  </a:lnTo>
                  <a:lnTo>
                    <a:pt x="2927" y="122"/>
                  </a:lnTo>
                  <a:lnTo>
                    <a:pt x="2635" y="107"/>
                  </a:lnTo>
                  <a:lnTo>
                    <a:pt x="2344" y="91"/>
                  </a:lnTo>
                  <a:lnTo>
                    <a:pt x="2296" y="89"/>
                  </a:lnTo>
                  <a:lnTo>
                    <a:pt x="2026" y="82"/>
                  </a:lnTo>
                  <a:lnTo>
                    <a:pt x="1981" y="74"/>
                  </a:lnTo>
                  <a:lnTo>
                    <a:pt x="1891" y="78"/>
                  </a:lnTo>
                  <a:lnTo>
                    <a:pt x="792" y="55"/>
                  </a:lnTo>
                  <a:lnTo>
                    <a:pt x="688" y="55"/>
                  </a:lnTo>
                  <a:lnTo>
                    <a:pt x="441" y="46"/>
                  </a:lnTo>
                  <a:lnTo>
                    <a:pt x="194" y="63"/>
                  </a:lnTo>
                  <a:lnTo>
                    <a:pt x="17" y="63"/>
                  </a:lnTo>
                  <a:lnTo>
                    <a:pt x="0" y="38"/>
                  </a:lnTo>
                  <a:lnTo>
                    <a:pt x="7" y="25"/>
                  </a:lnTo>
                  <a:lnTo>
                    <a:pt x="24" y="21"/>
                  </a:lnTo>
                  <a:lnTo>
                    <a:pt x="24" y="21"/>
                  </a:lnTo>
                  <a:lnTo>
                    <a:pt x="24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855880" y="2180880"/>
              <a:ext cx="281160" cy="22680"/>
            </a:xfrm>
            <a:custGeom>
              <a:avLst/>
              <a:gdLst/>
              <a:ahLst/>
              <a:rect l="l" t="t" r="r" b="b"/>
              <a:pathLst>
                <a:path w="1599" h="168">
                  <a:moveTo>
                    <a:pt x="29" y="0"/>
                  </a:moveTo>
                  <a:lnTo>
                    <a:pt x="400" y="15"/>
                  </a:lnTo>
                  <a:lnTo>
                    <a:pt x="643" y="40"/>
                  </a:lnTo>
                  <a:lnTo>
                    <a:pt x="856" y="59"/>
                  </a:lnTo>
                  <a:lnTo>
                    <a:pt x="1314" y="99"/>
                  </a:lnTo>
                  <a:lnTo>
                    <a:pt x="1449" y="120"/>
                  </a:lnTo>
                  <a:lnTo>
                    <a:pt x="1586" y="137"/>
                  </a:lnTo>
                  <a:lnTo>
                    <a:pt x="1599" y="152"/>
                  </a:lnTo>
                  <a:lnTo>
                    <a:pt x="1586" y="166"/>
                  </a:lnTo>
                  <a:lnTo>
                    <a:pt x="1308" y="168"/>
                  </a:lnTo>
                  <a:lnTo>
                    <a:pt x="392" y="82"/>
                  </a:lnTo>
                  <a:lnTo>
                    <a:pt x="23" y="52"/>
                  </a:lnTo>
                  <a:lnTo>
                    <a:pt x="0" y="23"/>
                  </a:lnTo>
                  <a:lnTo>
                    <a:pt x="10" y="4"/>
                  </a:lnTo>
                  <a:lnTo>
                    <a:pt x="29" y="0"/>
                  </a:lnTo>
                  <a:lnTo>
                    <a:pt x="29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841840" y="2201400"/>
              <a:ext cx="204480" cy="16560"/>
            </a:xfrm>
            <a:custGeom>
              <a:avLst/>
              <a:gdLst/>
              <a:ahLst/>
              <a:rect l="l" t="t" r="r" b="b"/>
              <a:pathLst>
                <a:path w="1163" h="124">
                  <a:moveTo>
                    <a:pt x="15" y="0"/>
                  </a:moveTo>
                  <a:lnTo>
                    <a:pt x="366" y="16"/>
                  </a:lnTo>
                  <a:lnTo>
                    <a:pt x="581" y="33"/>
                  </a:lnTo>
                  <a:lnTo>
                    <a:pt x="866" y="61"/>
                  </a:lnTo>
                  <a:lnTo>
                    <a:pt x="998" y="80"/>
                  </a:lnTo>
                  <a:lnTo>
                    <a:pt x="1150" y="97"/>
                  </a:lnTo>
                  <a:lnTo>
                    <a:pt x="1163" y="112"/>
                  </a:lnTo>
                  <a:lnTo>
                    <a:pt x="1148" y="124"/>
                  </a:lnTo>
                  <a:lnTo>
                    <a:pt x="579" y="93"/>
                  </a:lnTo>
                  <a:lnTo>
                    <a:pt x="361" y="76"/>
                  </a:lnTo>
                  <a:lnTo>
                    <a:pt x="188" y="46"/>
                  </a:lnTo>
                  <a:lnTo>
                    <a:pt x="15" y="29"/>
                  </a:lnTo>
                  <a:lnTo>
                    <a:pt x="0" y="14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177000" y="2196360"/>
              <a:ext cx="61560" cy="9000"/>
            </a:xfrm>
            <a:custGeom>
              <a:avLst/>
              <a:gdLst/>
              <a:ahLst/>
              <a:rect l="l" t="t" r="r" b="b"/>
              <a:pathLst>
                <a:path w="352" h="69">
                  <a:moveTo>
                    <a:pt x="16" y="0"/>
                  </a:moveTo>
                  <a:lnTo>
                    <a:pt x="322" y="8"/>
                  </a:lnTo>
                  <a:lnTo>
                    <a:pt x="352" y="38"/>
                  </a:lnTo>
                  <a:lnTo>
                    <a:pt x="344" y="59"/>
                  </a:lnTo>
                  <a:lnTo>
                    <a:pt x="322" y="69"/>
                  </a:lnTo>
                  <a:lnTo>
                    <a:pt x="166" y="53"/>
                  </a:lnTo>
                  <a:lnTo>
                    <a:pt x="12" y="29"/>
                  </a:lnTo>
                  <a:lnTo>
                    <a:pt x="0" y="14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190680" y="2208960"/>
              <a:ext cx="62280" cy="7920"/>
            </a:xfrm>
            <a:custGeom>
              <a:avLst/>
              <a:gdLst/>
              <a:ahLst/>
              <a:rect l="l" t="t" r="r" b="b"/>
              <a:pathLst>
                <a:path w="358" h="60">
                  <a:moveTo>
                    <a:pt x="16" y="19"/>
                  </a:moveTo>
                  <a:lnTo>
                    <a:pt x="170" y="17"/>
                  </a:lnTo>
                  <a:lnTo>
                    <a:pt x="325" y="0"/>
                  </a:lnTo>
                  <a:lnTo>
                    <a:pt x="358" y="28"/>
                  </a:lnTo>
                  <a:lnTo>
                    <a:pt x="352" y="49"/>
                  </a:lnTo>
                  <a:lnTo>
                    <a:pt x="331" y="60"/>
                  </a:lnTo>
                  <a:lnTo>
                    <a:pt x="171" y="60"/>
                  </a:lnTo>
                  <a:lnTo>
                    <a:pt x="12" y="47"/>
                  </a:lnTo>
                  <a:lnTo>
                    <a:pt x="0" y="32"/>
                  </a:lnTo>
                  <a:lnTo>
                    <a:pt x="16" y="19"/>
                  </a:lnTo>
                  <a:lnTo>
                    <a:pt x="16" y="19"/>
                  </a:lnTo>
                  <a:lnTo>
                    <a:pt x="1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196080" y="2223000"/>
              <a:ext cx="72000" cy="9720"/>
            </a:xfrm>
            <a:custGeom>
              <a:avLst/>
              <a:gdLst/>
              <a:ahLst/>
              <a:rect l="l" t="t" r="r" b="b"/>
              <a:pathLst>
                <a:path w="410" h="72">
                  <a:moveTo>
                    <a:pt x="24" y="17"/>
                  </a:moveTo>
                  <a:lnTo>
                    <a:pt x="327" y="13"/>
                  </a:lnTo>
                  <a:lnTo>
                    <a:pt x="393" y="0"/>
                  </a:lnTo>
                  <a:lnTo>
                    <a:pt x="410" y="10"/>
                  </a:lnTo>
                  <a:lnTo>
                    <a:pt x="403" y="27"/>
                  </a:lnTo>
                  <a:lnTo>
                    <a:pt x="370" y="48"/>
                  </a:lnTo>
                  <a:lnTo>
                    <a:pt x="336" y="69"/>
                  </a:lnTo>
                  <a:lnTo>
                    <a:pt x="180" y="72"/>
                  </a:lnTo>
                  <a:lnTo>
                    <a:pt x="24" y="67"/>
                  </a:lnTo>
                  <a:lnTo>
                    <a:pt x="0" y="42"/>
                  </a:lnTo>
                  <a:lnTo>
                    <a:pt x="5" y="25"/>
                  </a:lnTo>
                  <a:lnTo>
                    <a:pt x="24" y="17"/>
                  </a:lnTo>
                  <a:lnTo>
                    <a:pt x="24" y="17"/>
                  </a:lnTo>
                  <a:lnTo>
                    <a:pt x="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846160" y="1752480"/>
              <a:ext cx="384120" cy="81000"/>
            </a:xfrm>
            <a:custGeom>
              <a:avLst/>
              <a:gdLst/>
              <a:ahLst/>
              <a:rect l="l" t="t" r="r" b="b"/>
              <a:pathLst>
                <a:path w="2185" h="595">
                  <a:moveTo>
                    <a:pt x="4" y="570"/>
                  </a:moveTo>
                  <a:lnTo>
                    <a:pt x="82" y="515"/>
                  </a:lnTo>
                  <a:lnTo>
                    <a:pt x="156" y="467"/>
                  </a:lnTo>
                  <a:lnTo>
                    <a:pt x="299" y="393"/>
                  </a:lnTo>
                  <a:lnTo>
                    <a:pt x="451" y="334"/>
                  </a:lnTo>
                  <a:lnTo>
                    <a:pt x="628" y="283"/>
                  </a:lnTo>
                  <a:lnTo>
                    <a:pt x="747" y="249"/>
                  </a:lnTo>
                  <a:lnTo>
                    <a:pt x="850" y="214"/>
                  </a:lnTo>
                  <a:lnTo>
                    <a:pt x="955" y="182"/>
                  </a:lnTo>
                  <a:lnTo>
                    <a:pt x="1074" y="155"/>
                  </a:lnTo>
                  <a:lnTo>
                    <a:pt x="1246" y="114"/>
                  </a:lnTo>
                  <a:lnTo>
                    <a:pt x="1420" y="64"/>
                  </a:lnTo>
                  <a:lnTo>
                    <a:pt x="1616" y="26"/>
                  </a:lnTo>
                  <a:lnTo>
                    <a:pt x="1791" y="7"/>
                  </a:lnTo>
                  <a:lnTo>
                    <a:pt x="2169" y="0"/>
                  </a:lnTo>
                  <a:lnTo>
                    <a:pt x="2185" y="15"/>
                  </a:lnTo>
                  <a:lnTo>
                    <a:pt x="2169" y="30"/>
                  </a:lnTo>
                  <a:lnTo>
                    <a:pt x="1801" y="59"/>
                  </a:lnTo>
                  <a:lnTo>
                    <a:pt x="1630" y="95"/>
                  </a:lnTo>
                  <a:lnTo>
                    <a:pt x="1438" y="140"/>
                  </a:lnTo>
                  <a:lnTo>
                    <a:pt x="1263" y="188"/>
                  </a:lnTo>
                  <a:lnTo>
                    <a:pt x="1088" y="228"/>
                  </a:lnTo>
                  <a:lnTo>
                    <a:pt x="867" y="287"/>
                  </a:lnTo>
                  <a:lnTo>
                    <a:pt x="765" y="319"/>
                  </a:lnTo>
                  <a:lnTo>
                    <a:pt x="645" y="353"/>
                  </a:lnTo>
                  <a:lnTo>
                    <a:pt x="470" y="397"/>
                  </a:lnTo>
                  <a:lnTo>
                    <a:pt x="318" y="441"/>
                  </a:lnTo>
                  <a:lnTo>
                    <a:pt x="171" y="501"/>
                  </a:lnTo>
                  <a:lnTo>
                    <a:pt x="99" y="543"/>
                  </a:lnTo>
                  <a:lnTo>
                    <a:pt x="21" y="595"/>
                  </a:lnTo>
                  <a:lnTo>
                    <a:pt x="0" y="591"/>
                  </a:lnTo>
                  <a:lnTo>
                    <a:pt x="4" y="570"/>
                  </a:lnTo>
                  <a:lnTo>
                    <a:pt x="4" y="5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243240" y="1758960"/>
              <a:ext cx="39240" cy="45720"/>
            </a:xfrm>
            <a:custGeom>
              <a:avLst/>
              <a:gdLst/>
              <a:ahLst/>
              <a:rect l="l" t="t" r="r" b="b"/>
              <a:pathLst>
                <a:path w="224" h="338">
                  <a:moveTo>
                    <a:pt x="25" y="0"/>
                  </a:moveTo>
                  <a:lnTo>
                    <a:pt x="91" y="69"/>
                  </a:lnTo>
                  <a:lnTo>
                    <a:pt x="144" y="133"/>
                  </a:lnTo>
                  <a:lnTo>
                    <a:pt x="224" y="291"/>
                  </a:lnTo>
                  <a:lnTo>
                    <a:pt x="222" y="321"/>
                  </a:lnTo>
                  <a:lnTo>
                    <a:pt x="201" y="338"/>
                  </a:lnTo>
                  <a:lnTo>
                    <a:pt x="173" y="338"/>
                  </a:lnTo>
                  <a:lnTo>
                    <a:pt x="154" y="316"/>
                  </a:lnTo>
                  <a:lnTo>
                    <a:pt x="123" y="232"/>
                  </a:lnTo>
                  <a:lnTo>
                    <a:pt x="97" y="158"/>
                  </a:lnTo>
                  <a:lnTo>
                    <a:pt x="59" y="89"/>
                  </a:lnTo>
                  <a:lnTo>
                    <a:pt x="34" y="55"/>
                  </a:lnTo>
                  <a:lnTo>
                    <a:pt x="4" y="21"/>
                  </a:lnTo>
                  <a:lnTo>
                    <a:pt x="0" y="10"/>
                  </a:lnTo>
                  <a:lnTo>
                    <a:pt x="4" y="0"/>
                  </a:lnTo>
                  <a:lnTo>
                    <a:pt x="25" y="0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17320" y="1798200"/>
              <a:ext cx="66240" cy="269280"/>
            </a:xfrm>
            <a:custGeom>
              <a:avLst/>
              <a:gdLst/>
              <a:ahLst/>
              <a:rect l="l" t="t" r="r" b="b"/>
              <a:pathLst>
                <a:path w="378" h="1983">
                  <a:moveTo>
                    <a:pt x="378" y="36"/>
                  </a:moveTo>
                  <a:lnTo>
                    <a:pt x="319" y="492"/>
                  </a:lnTo>
                  <a:lnTo>
                    <a:pt x="292" y="637"/>
                  </a:lnTo>
                  <a:lnTo>
                    <a:pt x="264" y="779"/>
                  </a:lnTo>
                  <a:lnTo>
                    <a:pt x="239" y="897"/>
                  </a:lnTo>
                  <a:lnTo>
                    <a:pt x="218" y="1004"/>
                  </a:lnTo>
                  <a:lnTo>
                    <a:pt x="178" y="1199"/>
                  </a:lnTo>
                  <a:lnTo>
                    <a:pt x="117" y="1625"/>
                  </a:lnTo>
                  <a:lnTo>
                    <a:pt x="74" y="1947"/>
                  </a:lnTo>
                  <a:lnTo>
                    <a:pt x="60" y="1975"/>
                  </a:lnTo>
                  <a:lnTo>
                    <a:pt x="34" y="1983"/>
                  </a:lnTo>
                  <a:lnTo>
                    <a:pt x="0" y="1945"/>
                  </a:lnTo>
                  <a:lnTo>
                    <a:pt x="19" y="1781"/>
                  </a:lnTo>
                  <a:lnTo>
                    <a:pt x="45" y="1618"/>
                  </a:lnTo>
                  <a:lnTo>
                    <a:pt x="74" y="1390"/>
                  </a:lnTo>
                  <a:lnTo>
                    <a:pt x="110" y="1190"/>
                  </a:lnTo>
                  <a:lnTo>
                    <a:pt x="154" y="992"/>
                  </a:lnTo>
                  <a:lnTo>
                    <a:pt x="176" y="886"/>
                  </a:lnTo>
                  <a:lnTo>
                    <a:pt x="201" y="768"/>
                  </a:lnTo>
                  <a:lnTo>
                    <a:pt x="260" y="483"/>
                  </a:lnTo>
                  <a:lnTo>
                    <a:pt x="315" y="25"/>
                  </a:lnTo>
                  <a:lnTo>
                    <a:pt x="328" y="4"/>
                  </a:lnTo>
                  <a:lnTo>
                    <a:pt x="351" y="0"/>
                  </a:lnTo>
                  <a:lnTo>
                    <a:pt x="378" y="36"/>
                  </a:lnTo>
                  <a:lnTo>
                    <a:pt x="378" y="36"/>
                  </a:lnTo>
                  <a:lnTo>
                    <a:pt x="37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199680" y="1776600"/>
              <a:ext cx="42840" cy="244080"/>
            </a:xfrm>
            <a:custGeom>
              <a:avLst/>
              <a:gdLst/>
              <a:ahLst/>
              <a:rect l="l" t="t" r="r" b="b"/>
              <a:pathLst>
                <a:path w="243" h="1797">
                  <a:moveTo>
                    <a:pt x="243" y="25"/>
                  </a:moveTo>
                  <a:lnTo>
                    <a:pt x="241" y="247"/>
                  </a:lnTo>
                  <a:lnTo>
                    <a:pt x="232" y="333"/>
                  </a:lnTo>
                  <a:lnTo>
                    <a:pt x="216" y="609"/>
                  </a:lnTo>
                  <a:lnTo>
                    <a:pt x="203" y="884"/>
                  </a:lnTo>
                  <a:lnTo>
                    <a:pt x="169" y="1120"/>
                  </a:lnTo>
                  <a:lnTo>
                    <a:pt x="129" y="1358"/>
                  </a:lnTo>
                  <a:lnTo>
                    <a:pt x="104" y="1472"/>
                  </a:lnTo>
                  <a:lnTo>
                    <a:pt x="78" y="1570"/>
                  </a:lnTo>
                  <a:lnTo>
                    <a:pt x="28" y="1783"/>
                  </a:lnTo>
                  <a:lnTo>
                    <a:pt x="11" y="1797"/>
                  </a:lnTo>
                  <a:lnTo>
                    <a:pt x="0" y="1778"/>
                  </a:lnTo>
                  <a:lnTo>
                    <a:pt x="53" y="1344"/>
                  </a:lnTo>
                  <a:lnTo>
                    <a:pt x="127" y="879"/>
                  </a:lnTo>
                  <a:lnTo>
                    <a:pt x="146" y="605"/>
                  </a:lnTo>
                  <a:lnTo>
                    <a:pt x="163" y="329"/>
                  </a:lnTo>
                  <a:lnTo>
                    <a:pt x="169" y="247"/>
                  </a:lnTo>
                  <a:lnTo>
                    <a:pt x="194" y="27"/>
                  </a:lnTo>
                  <a:lnTo>
                    <a:pt x="199" y="8"/>
                  </a:lnTo>
                  <a:lnTo>
                    <a:pt x="216" y="0"/>
                  </a:lnTo>
                  <a:lnTo>
                    <a:pt x="243" y="25"/>
                  </a:lnTo>
                  <a:lnTo>
                    <a:pt x="243" y="25"/>
                  </a:lnTo>
                  <a:lnTo>
                    <a:pt x="243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845800" y="1839960"/>
              <a:ext cx="73800" cy="227520"/>
            </a:xfrm>
            <a:custGeom>
              <a:avLst/>
              <a:gdLst/>
              <a:ahLst/>
              <a:rect l="l" t="t" r="r" b="b"/>
              <a:pathLst>
                <a:path w="421" h="1673">
                  <a:moveTo>
                    <a:pt x="31" y="13"/>
                  </a:moveTo>
                  <a:lnTo>
                    <a:pt x="56" y="234"/>
                  </a:lnTo>
                  <a:lnTo>
                    <a:pt x="75" y="331"/>
                  </a:lnTo>
                  <a:lnTo>
                    <a:pt x="97" y="424"/>
                  </a:lnTo>
                  <a:lnTo>
                    <a:pt x="126" y="517"/>
                  </a:lnTo>
                  <a:lnTo>
                    <a:pt x="156" y="614"/>
                  </a:lnTo>
                  <a:lnTo>
                    <a:pt x="189" y="715"/>
                  </a:lnTo>
                  <a:lnTo>
                    <a:pt x="225" y="825"/>
                  </a:lnTo>
                  <a:lnTo>
                    <a:pt x="333" y="1281"/>
                  </a:lnTo>
                  <a:lnTo>
                    <a:pt x="417" y="1616"/>
                  </a:lnTo>
                  <a:lnTo>
                    <a:pt x="421" y="1639"/>
                  </a:lnTo>
                  <a:lnTo>
                    <a:pt x="407" y="1673"/>
                  </a:lnTo>
                  <a:lnTo>
                    <a:pt x="375" y="1661"/>
                  </a:lnTo>
                  <a:lnTo>
                    <a:pt x="354" y="1635"/>
                  </a:lnTo>
                  <a:lnTo>
                    <a:pt x="339" y="1543"/>
                  </a:lnTo>
                  <a:lnTo>
                    <a:pt x="320" y="1464"/>
                  </a:lnTo>
                  <a:lnTo>
                    <a:pt x="299" y="1386"/>
                  </a:lnTo>
                  <a:lnTo>
                    <a:pt x="272" y="1298"/>
                  </a:lnTo>
                  <a:lnTo>
                    <a:pt x="179" y="840"/>
                  </a:lnTo>
                  <a:lnTo>
                    <a:pt x="143" y="728"/>
                  </a:lnTo>
                  <a:lnTo>
                    <a:pt x="113" y="623"/>
                  </a:lnTo>
                  <a:lnTo>
                    <a:pt x="61" y="433"/>
                  </a:lnTo>
                  <a:lnTo>
                    <a:pt x="0" y="15"/>
                  </a:lnTo>
                  <a:lnTo>
                    <a:pt x="14" y="0"/>
                  </a:lnTo>
                  <a:lnTo>
                    <a:pt x="31" y="13"/>
                  </a:lnTo>
                  <a:lnTo>
                    <a:pt x="31" y="13"/>
                  </a:lnTo>
                  <a:lnTo>
                    <a:pt x="3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927160" y="2068920"/>
              <a:ext cx="241560" cy="11520"/>
            </a:xfrm>
            <a:custGeom>
              <a:avLst/>
              <a:gdLst/>
              <a:ahLst/>
              <a:rect l="l" t="t" r="r" b="b"/>
              <a:pathLst>
                <a:path w="1375" h="88">
                  <a:moveTo>
                    <a:pt x="18" y="10"/>
                  </a:moveTo>
                  <a:lnTo>
                    <a:pt x="198" y="15"/>
                  </a:lnTo>
                  <a:lnTo>
                    <a:pt x="381" y="0"/>
                  </a:lnTo>
                  <a:lnTo>
                    <a:pt x="1337" y="12"/>
                  </a:lnTo>
                  <a:lnTo>
                    <a:pt x="1365" y="23"/>
                  </a:lnTo>
                  <a:lnTo>
                    <a:pt x="1375" y="50"/>
                  </a:lnTo>
                  <a:lnTo>
                    <a:pt x="1365" y="76"/>
                  </a:lnTo>
                  <a:lnTo>
                    <a:pt x="1337" y="88"/>
                  </a:lnTo>
                  <a:lnTo>
                    <a:pt x="860" y="76"/>
                  </a:lnTo>
                  <a:lnTo>
                    <a:pt x="381" y="65"/>
                  </a:lnTo>
                  <a:lnTo>
                    <a:pt x="194" y="63"/>
                  </a:lnTo>
                  <a:lnTo>
                    <a:pt x="12" y="40"/>
                  </a:lnTo>
                  <a:lnTo>
                    <a:pt x="0" y="21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173760" y="2069640"/>
              <a:ext cx="45360" cy="12600"/>
            </a:xfrm>
            <a:custGeom>
              <a:avLst/>
              <a:gdLst/>
              <a:ahLst/>
              <a:rect l="l" t="t" r="r" b="b"/>
              <a:pathLst>
                <a:path w="261" h="95">
                  <a:moveTo>
                    <a:pt x="27" y="40"/>
                  </a:moveTo>
                  <a:lnTo>
                    <a:pt x="103" y="25"/>
                  </a:lnTo>
                  <a:lnTo>
                    <a:pt x="242" y="0"/>
                  </a:lnTo>
                  <a:lnTo>
                    <a:pt x="261" y="8"/>
                  </a:lnTo>
                  <a:lnTo>
                    <a:pt x="251" y="29"/>
                  </a:lnTo>
                  <a:lnTo>
                    <a:pt x="185" y="59"/>
                  </a:lnTo>
                  <a:lnTo>
                    <a:pt x="120" y="91"/>
                  </a:lnTo>
                  <a:lnTo>
                    <a:pt x="27" y="95"/>
                  </a:lnTo>
                  <a:lnTo>
                    <a:pt x="0" y="68"/>
                  </a:lnTo>
                  <a:lnTo>
                    <a:pt x="6" y="49"/>
                  </a:lnTo>
                  <a:lnTo>
                    <a:pt x="27" y="40"/>
                  </a:lnTo>
                  <a:lnTo>
                    <a:pt x="27" y="40"/>
                  </a:lnTo>
                  <a:lnTo>
                    <a:pt x="2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951280" y="2071800"/>
              <a:ext cx="36720" cy="38520"/>
            </a:xfrm>
            <a:custGeom>
              <a:avLst/>
              <a:gdLst/>
              <a:ahLst/>
              <a:rect l="l" t="t" r="r" b="b"/>
              <a:pathLst>
                <a:path w="209" h="283">
                  <a:moveTo>
                    <a:pt x="169" y="19"/>
                  </a:moveTo>
                  <a:lnTo>
                    <a:pt x="209" y="99"/>
                  </a:lnTo>
                  <a:lnTo>
                    <a:pt x="207" y="124"/>
                  </a:lnTo>
                  <a:lnTo>
                    <a:pt x="175" y="184"/>
                  </a:lnTo>
                  <a:lnTo>
                    <a:pt x="133" y="226"/>
                  </a:lnTo>
                  <a:lnTo>
                    <a:pt x="80" y="257"/>
                  </a:lnTo>
                  <a:lnTo>
                    <a:pt x="21" y="283"/>
                  </a:lnTo>
                  <a:lnTo>
                    <a:pt x="0" y="276"/>
                  </a:lnTo>
                  <a:lnTo>
                    <a:pt x="8" y="257"/>
                  </a:lnTo>
                  <a:lnTo>
                    <a:pt x="84" y="198"/>
                  </a:lnTo>
                  <a:lnTo>
                    <a:pt x="129" y="110"/>
                  </a:lnTo>
                  <a:lnTo>
                    <a:pt x="103" y="48"/>
                  </a:lnTo>
                  <a:lnTo>
                    <a:pt x="103" y="19"/>
                  </a:lnTo>
                  <a:lnTo>
                    <a:pt x="122" y="0"/>
                  </a:lnTo>
                  <a:lnTo>
                    <a:pt x="169" y="19"/>
                  </a:lnTo>
                  <a:lnTo>
                    <a:pt x="169" y="19"/>
                  </a:lnTo>
                  <a:lnTo>
                    <a:pt x="16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930040" y="2107440"/>
              <a:ext cx="17640" cy="17640"/>
            </a:xfrm>
            <a:custGeom>
              <a:avLst/>
              <a:gdLst/>
              <a:ahLst/>
              <a:rect l="l" t="t" r="r" b="b"/>
              <a:pathLst>
                <a:path w="101" h="130">
                  <a:moveTo>
                    <a:pt x="29" y="122"/>
                  </a:moveTo>
                  <a:lnTo>
                    <a:pt x="0" y="80"/>
                  </a:lnTo>
                  <a:lnTo>
                    <a:pt x="4" y="57"/>
                  </a:lnTo>
                  <a:lnTo>
                    <a:pt x="38" y="25"/>
                  </a:lnTo>
                  <a:lnTo>
                    <a:pt x="78" y="0"/>
                  </a:lnTo>
                  <a:lnTo>
                    <a:pt x="101" y="6"/>
                  </a:lnTo>
                  <a:lnTo>
                    <a:pt x="95" y="29"/>
                  </a:lnTo>
                  <a:lnTo>
                    <a:pt x="54" y="76"/>
                  </a:lnTo>
                  <a:lnTo>
                    <a:pt x="61" y="105"/>
                  </a:lnTo>
                  <a:lnTo>
                    <a:pt x="54" y="130"/>
                  </a:lnTo>
                  <a:lnTo>
                    <a:pt x="29" y="122"/>
                  </a:lnTo>
                  <a:lnTo>
                    <a:pt x="29" y="122"/>
                  </a:lnTo>
                  <a:lnTo>
                    <a:pt x="29" y="1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131640" y="2071080"/>
              <a:ext cx="53280" cy="25200"/>
            </a:xfrm>
            <a:custGeom>
              <a:avLst/>
              <a:gdLst/>
              <a:ahLst/>
              <a:rect l="l" t="t" r="r" b="b"/>
              <a:pathLst>
                <a:path w="304" h="187">
                  <a:moveTo>
                    <a:pt x="66" y="29"/>
                  </a:moveTo>
                  <a:lnTo>
                    <a:pt x="76" y="63"/>
                  </a:lnTo>
                  <a:lnTo>
                    <a:pt x="95" y="88"/>
                  </a:lnTo>
                  <a:lnTo>
                    <a:pt x="121" y="107"/>
                  </a:lnTo>
                  <a:lnTo>
                    <a:pt x="152" y="124"/>
                  </a:lnTo>
                  <a:lnTo>
                    <a:pt x="287" y="128"/>
                  </a:lnTo>
                  <a:lnTo>
                    <a:pt x="304" y="141"/>
                  </a:lnTo>
                  <a:lnTo>
                    <a:pt x="293" y="156"/>
                  </a:lnTo>
                  <a:lnTo>
                    <a:pt x="215" y="175"/>
                  </a:lnTo>
                  <a:lnTo>
                    <a:pt x="139" y="187"/>
                  </a:lnTo>
                  <a:lnTo>
                    <a:pt x="47" y="130"/>
                  </a:lnTo>
                  <a:lnTo>
                    <a:pt x="0" y="36"/>
                  </a:lnTo>
                  <a:lnTo>
                    <a:pt x="7" y="10"/>
                  </a:lnTo>
                  <a:lnTo>
                    <a:pt x="30" y="0"/>
                  </a:lnTo>
                  <a:lnTo>
                    <a:pt x="66" y="29"/>
                  </a:lnTo>
                  <a:lnTo>
                    <a:pt x="66" y="29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192480" y="2089800"/>
              <a:ext cx="8640" cy="22320"/>
            </a:xfrm>
            <a:custGeom>
              <a:avLst/>
              <a:gdLst/>
              <a:ahLst/>
              <a:rect l="l" t="t" r="r" b="b"/>
              <a:pathLst>
                <a:path w="49" h="167">
                  <a:moveTo>
                    <a:pt x="43" y="17"/>
                  </a:moveTo>
                  <a:lnTo>
                    <a:pt x="49" y="71"/>
                  </a:lnTo>
                  <a:lnTo>
                    <a:pt x="40" y="152"/>
                  </a:lnTo>
                  <a:lnTo>
                    <a:pt x="24" y="167"/>
                  </a:lnTo>
                  <a:lnTo>
                    <a:pt x="9" y="152"/>
                  </a:lnTo>
                  <a:lnTo>
                    <a:pt x="0" y="71"/>
                  </a:lnTo>
                  <a:lnTo>
                    <a:pt x="5" y="17"/>
                  </a:lnTo>
                  <a:lnTo>
                    <a:pt x="24" y="0"/>
                  </a:lnTo>
                  <a:lnTo>
                    <a:pt x="43" y="17"/>
                  </a:lnTo>
                  <a:lnTo>
                    <a:pt x="43" y="17"/>
                  </a:lnTo>
                  <a:lnTo>
                    <a:pt x="43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946600" y="2043000"/>
              <a:ext cx="11520" cy="18720"/>
            </a:xfrm>
            <a:custGeom>
              <a:avLst/>
              <a:gdLst/>
              <a:ahLst/>
              <a:rect l="l" t="t" r="r" b="b"/>
              <a:pathLst>
                <a:path w="66" h="141">
                  <a:moveTo>
                    <a:pt x="51" y="27"/>
                  </a:moveTo>
                  <a:lnTo>
                    <a:pt x="66" y="122"/>
                  </a:lnTo>
                  <a:lnTo>
                    <a:pt x="57" y="141"/>
                  </a:lnTo>
                  <a:lnTo>
                    <a:pt x="38" y="133"/>
                  </a:lnTo>
                  <a:lnTo>
                    <a:pt x="0" y="31"/>
                  </a:lnTo>
                  <a:lnTo>
                    <a:pt x="5" y="8"/>
                  </a:lnTo>
                  <a:lnTo>
                    <a:pt x="20" y="0"/>
                  </a:lnTo>
                  <a:lnTo>
                    <a:pt x="51" y="27"/>
                  </a:lnTo>
                  <a:lnTo>
                    <a:pt x="51" y="27"/>
                  </a:lnTo>
                  <a:lnTo>
                    <a:pt x="51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947680" y="2031120"/>
              <a:ext cx="213120" cy="16200"/>
            </a:xfrm>
            <a:custGeom>
              <a:avLst/>
              <a:gdLst/>
              <a:ahLst/>
              <a:rect l="l" t="t" r="r" b="b"/>
              <a:pathLst>
                <a:path w="1213" h="119">
                  <a:moveTo>
                    <a:pt x="2" y="87"/>
                  </a:moveTo>
                  <a:lnTo>
                    <a:pt x="122" y="74"/>
                  </a:lnTo>
                  <a:lnTo>
                    <a:pt x="616" y="19"/>
                  </a:lnTo>
                  <a:lnTo>
                    <a:pt x="909" y="0"/>
                  </a:lnTo>
                  <a:lnTo>
                    <a:pt x="1200" y="5"/>
                  </a:lnTo>
                  <a:lnTo>
                    <a:pt x="1213" y="21"/>
                  </a:lnTo>
                  <a:lnTo>
                    <a:pt x="1200" y="36"/>
                  </a:lnTo>
                  <a:lnTo>
                    <a:pt x="593" y="70"/>
                  </a:lnTo>
                  <a:lnTo>
                    <a:pt x="124" y="114"/>
                  </a:lnTo>
                  <a:lnTo>
                    <a:pt x="25" y="119"/>
                  </a:lnTo>
                  <a:lnTo>
                    <a:pt x="0" y="106"/>
                  </a:lnTo>
                  <a:lnTo>
                    <a:pt x="2" y="87"/>
                  </a:lnTo>
                  <a:lnTo>
                    <a:pt x="2" y="87"/>
                  </a:lnTo>
                  <a:lnTo>
                    <a:pt x="2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155040" y="2031840"/>
              <a:ext cx="8280" cy="21600"/>
            </a:xfrm>
            <a:custGeom>
              <a:avLst/>
              <a:gdLst/>
              <a:ahLst/>
              <a:rect l="l" t="t" r="r" b="b"/>
              <a:pathLst>
                <a:path w="47" h="160">
                  <a:moveTo>
                    <a:pt x="47" y="25"/>
                  </a:moveTo>
                  <a:lnTo>
                    <a:pt x="38" y="147"/>
                  </a:lnTo>
                  <a:lnTo>
                    <a:pt x="23" y="160"/>
                  </a:lnTo>
                  <a:lnTo>
                    <a:pt x="8" y="147"/>
                  </a:lnTo>
                  <a:lnTo>
                    <a:pt x="0" y="25"/>
                  </a:lnTo>
                  <a:lnTo>
                    <a:pt x="8" y="6"/>
                  </a:lnTo>
                  <a:lnTo>
                    <a:pt x="23" y="0"/>
                  </a:lnTo>
                  <a:lnTo>
                    <a:pt x="47" y="25"/>
                  </a:lnTo>
                  <a:lnTo>
                    <a:pt x="47" y="25"/>
                  </a:lnTo>
                  <a:lnTo>
                    <a:pt x="4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111120" y="2040480"/>
              <a:ext cx="7920" cy="16560"/>
            </a:xfrm>
            <a:custGeom>
              <a:avLst/>
              <a:gdLst/>
              <a:ahLst/>
              <a:rect l="l" t="t" r="r" b="b"/>
              <a:pathLst>
                <a:path w="46" h="122">
                  <a:moveTo>
                    <a:pt x="46" y="23"/>
                  </a:moveTo>
                  <a:lnTo>
                    <a:pt x="38" y="108"/>
                  </a:lnTo>
                  <a:lnTo>
                    <a:pt x="23" y="122"/>
                  </a:lnTo>
                  <a:lnTo>
                    <a:pt x="9" y="105"/>
                  </a:lnTo>
                  <a:lnTo>
                    <a:pt x="0" y="23"/>
                  </a:lnTo>
                  <a:lnTo>
                    <a:pt x="7" y="6"/>
                  </a:lnTo>
                  <a:lnTo>
                    <a:pt x="23" y="0"/>
                  </a:lnTo>
                  <a:lnTo>
                    <a:pt x="46" y="23"/>
                  </a:lnTo>
                  <a:lnTo>
                    <a:pt x="46" y="23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070800" y="2040120"/>
              <a:ext cx="10080" cy="16560"/>
            </a:xfrm>
            <a:custGeom>
              <a:avLst/>
              <a:gdLst/>
              <a:ahLst/>
              <a:rect l="l" t="t" r="r" b="b"/>
              <a:pathLst>
                <a:path w="57" h="122">
                  <a:moveTo>
                    <a:pt x="57" y="17"/>
                  </a:moveTo>
                  <a:lnTo>
                    <a:pt x="47" y="97"/>
                  </a:lnTo>
                  <a:lnTo>
                    <a:pt x="32" y="122"/>
                  </a:lnTo>
                  <a:lnTo>
                    <a:pt x="17" y="103"/>
                  </a:lnTo>
                  <a:lnTo>
                    <a:pt x="0" y="15"/>
                  </a:lnTo>
                  <a:lnTo>
                    <a:pt x="9" y="2"/>
                  </a:lnTo>
                  <a:lnTo>
                    <a:pt x="28" y="0"/>
                  </a:lnTo>
                  <a:lnTo>
                    <a:pt x="57" y="17"/>
                  </a:lnTo>
                  <a:lnTo>
                    <a:pt x="57" y="17"/>
                  </a:lnTo>
                  <a:lnTo>
                    <a:pt x="5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024720" y="2039040"/>
              <a:ext cx="9360" cy="17280"/>
            </a:xfrm>
            <a:custGeom>
              <a:avLst/>
              <a:gdLst/>
              <a:ahLst/>
              <a:rect l="l" t="t" r="r" b="b"/>
              <a:pathLst>
                <a:path w="54" h="127">
                  <a:moveTo>
                    <a:pt x="54" y="24"/>
                  </a:moveTo>
                  <a:lnTo>
                    <a:pt x="48" y="104"/>
                  </a:lnTo>
                  <a:lnTo>
                    <a:pt x="31" y="127"/>
                  </a:lnTo>
                  <a:lnTo>
                    <a:pt x="12" y="108"/>
                  </a:lnTo>
                  <a:lnTo>
                    <a:pt x="0" y="24"/>
                  </a:lnTo>
                  <a:lnTo>
                    <a:pt x="8" y="7"/>
                  </a:lnTo>
                  <a:lnTo>
                    <a:pt x="27" y="0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4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984760" y="2040840"/>
              <a:ext cx="10080" cy="1836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57" y="21"/>
                  </a:moveTo>
                  <a:lnTo>
                    <a:pt x="54" y="59"/>
                  </a:lnTo>
                  <a:lnTo>
                    <a:pt x="54" y="122"/>
                  </a:lnTo>
                  <a:lnTo>
                    <a:pt x="38" y="137"/>
                  </a:lnTo>
                  <a:lnTo>
                    <a:pt x="23" y="122"/>
                  </a:lnTo>
                  <a:lnTo>
                    <a:pt x="8" y="63"/>
                  </a:lnTo>
                  <a:lnTo>
                    <a:pt x="0" y="19"/>
                  </a:lnTo>
                  <a:lnTo>
                    <a:pt x="8" y="4"/>
                  </a:lnTo>
                  <a:lnTo>
                    <a:pt x="29" y="0"/>
                  </a:lnTo>
                  <a:lnTo>
                    <a:pt x="57" y="21"/>
                  </a:lnTo>
                  <a:lnTo>
                    <a:pt x="57" y="21"/>
                  </a:lnTo>
                  <a:lnTo>
                    <a:pt x="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102120" y="1809000"/>
              <a:ext cx="76320" cy="25200"/>
            </a:xfrm>
            <a:custGeom>
              <a:avLst/>
              <a:gdLst/>
              <a:ahLst/>
              <a:rect l="l" t="t" r="r" b="b"/>
              <a:pathLst>
                <a:path w="437" h="184">
                  <a:moveTo>
                    <a:pt x="17" y="0"/>
                  </a:moveTo>
                  <a:lnTo>
                    <a:pt x="245" y="9"/>
                  </a:lnTo>
                  <a:lnTo>
                    <a:pt x="342" y="44"/>
                  </a:lnTo>
                  <a:lnTo>
                    <a:pt x="420" y="116"/>
                  </a:lnTo>
                  <a:lnTo>
                    <a:pt x="431" y="139"/>
                  </a:lnTo>
                  <a:lnTo>
                    <a:pt x="437" y="165"/>
                  </a:lnTo>
                  <a:lnTo>
                    <a:pt x="422" y="184"/>
                  </a:lnTo>
                  <a:lnTo>
                    <a:pt x="376" y="173"/>
                  </a:lnTo>
                  <a:lnTo>
                    <a:pt x="361" y="154"/>
                  </a:lnTo>
                  <a:lnTo>
                    <a:pt x="330" y="116"/>
                  </a:lnTo>
                  <a:lnTo>
                    <a:pt x="294" y="85"/>
                  </a:lnTo>
                  <a:lnTo>
                    <a:pt x="254" y="64"/>
                  </a:lnTo>
                  <a:lnTo>
                    <a:pt x="212" y="49"/>
                  </a:lnTo>
                  <a:lnTo>
                    <a:pt x="17" y="30"/>
                  </a:lnTo>
                  <a:lnTo>
                    <a:pt x="0" y="15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888640" y="1887120"/>
              <a:ext cx="61560" cy="134640"/>
            </a:xfrm>
            <a:custGeom>
              <a:avLst/>
              <a:gdLst/>
              <a:ahLst/>
              <a:rect l="l" t="t" r="r" b="b"/>
              <a:pathLst>
                <a:path w="349" h="992">
                  <a:moveTo>
                    <a:pt x="66" y="30"/>
                  </a:moveTo>
                  <a:lnTo>
                    <a:pt x="80" y="152"/>
                  </a:lnTo>
                  <a:lnTo>
                    <a:pt x="100" y="276"/>
                  </a:lnTo>
                  <a:lnTo>
                    <a:pt x="140" y="367"/>
                  </a:lnTo>
                  <a:lnTo>
                    <a:pt x="235" y="605"/>
                  </a:lnTo>
                  <a:lnTo>
                    <a:pt x="289" y="762"/>
                  </a:lnTo>
                  <a:lnTo>
                    <a:pt x="349" y="943"/>
                  </a:lnTo>
                  <a:lnTo>
                    <a:pt x="348" y="975"/>
                  </a:lnTo>
                  <a:lnTo>
                    <a:pt x="323" y="992"/>
                  </a:lnTo>
                  <a:lnTo>
                    <a:pt x="294" y="992"/>
                  </a:lnTo>
                  <a:lnTo>
                    <a:pt x="273" y="968"/>
                  </a:lnTo>
                  <a:lnTo>
                    <a:pt x="218" y="785"/>
                  </a:lnTo>
                  <a:lnTo>
                    <a:pt x="180" y="622"/>
                  </a:lnTo>
                  <a:lnTo>
                    <a:pt x="70" y="283"/>
                  </a:lnTo>
                  <a:lnTo>
                    <a:pt x="30" y="158"/>
                  </a:lnTo>
                  <a:lnTo>
                    <a:pt x="0" y="32"/>
                  </a:lnTo>
                  <a:lnTo>
                    <a:pt x="9" y="8"/>
                  </a:lnTo>
                  <a:lnTo>
                    <a:pt x="32" y="0"/>
                  </a:lnTo>
                  <a:lnTo>
                    <a:pt x="66" y="30"/>
                  </a:lnTo>
                  <a:lnTo>
                    <a:pt x="6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949480" y="2001960"/>
              <a:ext cx="219240" cy="24840"/>
            </a:xfrm>
            <a:custGeom>
              <a:avLst/>
              <a:gdLst/>
              <a:ahLst/>
              <a:rect l="l" t="t" r="r" b="b"/>
              <a:pathLst>
                <a:path w="1247" h="182">
                  <a:moveTo>
                    <a:pt x="38" y="133"/>
                  </a:moveTo>
                  <a:lnTo>
                    <a:pt x="264" y="102"/>
                  </a:lnTo>
                  <a:lnTo>
                    <a:pt x="477" y="83"/>
                  </a:lnTo>
                  <a:lnTo>
                    <a:pt x="842" y="34"/>
                  </a:lnTo>
                  <a:lnTo>
                    <a:pt x="1013" y="11"/>
                  </a:lnTo>
                  <a:lnTo>
                    <a:pt x="1207" y="0"/>
                  </a:lnTo>
                  <a:lnTo>
                    <a:pt x="1237" y="13"/>
                  </a:lnTo>
                  <a:lnTo>
                    <a:pt x="1247" y="38"/>
                  </a:lnTo>
                  <a:lnTo>
                    <a:pt x="1237" y="64"/>
                  </a:lnTo>
                  <a:lnTo>
                    <a:pt x="1207" y="76"/>
                  </a:lnTo>
                  <a:lnTo>
                    <a:pt x="846" y="104"/>
                  </a:lnTo>
                  <a:lnTo>
                    <a:pt x="676" y="129"/>
                  </a:lnTo>
                  <a:lnTo>
                    <a:pt x="483" y="148"/>
                  </a:lnTo>
                  <a:lnTo>
                    <a:pt x="0" y="182"/>
                  </a:lnTo>
                  <a:lnTo>
                    <a:pt x="3" y="161"/>
                  </a:lnTo>
                  <a:lnTo>
                    <a:pt x="38" y="133"/>
                  </a:lnTo>
                  <a:lnTo>
                    <a:pt x="38" y="133"/>
                  </a:lnTo>
                  <a:lnTo>
                    <a:pt x="38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154680" y="1802520"/>
              <a:ext cx="45360" cy="209880"/>
            </a:xfrm>
            <a:custGeom>
              <a:avLst/>
              <a:gdLst/>
              <a:ahLst/>
              <a:rect l="l" t="t" r="r" b="b"/>
              <a:pathLst>
                <a:path w="259" h="1546">
                  <a:moveTo>
                    <a:pt x="243" y="21"/>
                  </a:moveTo>
                  <a:lnTo>
                    <a:pt x="259" y="166"/>
                  </a:lnTo>
                  <a:lnTo>
                    <a:pt x="247" y="398"/>
                  </a:lnTo>
                  <a:lnTo>
                    <a:pt x="219" y="597"/>
                  </a:lnTo>
                  <a:lnTo>
                    <a:pt x="181" y="797"/>
                  </a:lnTo>
                  <a:lnTo>
                    <a:pt x="139" y="1031"/>
                  </a:lnTo>
                  <a:lnTo>
                    <a:pt x="108" y="1278"/>
                  </a:lnTo>
                  <a:lnTo>
                    <a:pt x="97" y="1396"/>
                  </a:lnTo>
                  <a:lnTo>
                    <a:pt x="76" y="1513"/>
                  </a:lnTo>
                  <a:lnTo>
                    <a:pt x="61" y="1540"/>
                  </a:lnTo>
                  <a:lnTo>
                    <a:pt x="32" y="1546"/>
                  </a:lnTo>
                  <a:lnTo>
                    <a:pt x="0" y="1502"/>
                  </a:lnTo>
                  <a:lnTo>
                    <a:pt x="27" y="1274"/>
                  </a:lnTo>
                  <a:lnTo>
                    <a:pt x="61" y="1017"/>
                  </a:lnTo>
                  <a:lnTo>
                    <a:pt x="84" y="896"/>
                  </a:lnTo>
                  <a:lnTo>
                    <a:pt x="106" y="785"/>
                  </a:lnTo>
                  <a:lnTo>
                    <a:pt x="152" y="584"/>
                  </a:lnTo>
                  <a:lnTo>
                    <a:pt x="202" y="151"/>
                  </a:lnTo>
                  <a:lnTo>
                    <a:pt x="184" y="65"/>
                  </a:lnTo>
                  <a:lnTo>
                    <a:pt x="194" y="31"/>
                  </a:lnTo>
                  <a:lnTo>
                    <a:pt x="215" y="6"/>
                  </a:lnTo>
                  <a:lnTo>
                    <a:pt x="234" y="0"/>
                  </a:lnTo>
                  <a:lnTo>
                    <a:pt x="243" y="21"/>
                  </a:lnTo>
                  <a:lnTo>
                    <a:pt x="243" y="21"/>
                  </a:lnTo>
                  <a:lnTo>
                    <a:pt x="243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746440" y="2167200"/>
              <a:ext cx="77040" cy="68400"/>
            </a:xfrm>
            <a:custGeom>
              <a:avLst/>
              <a:gdLst/>
              <a:ahLst/>
              <a:rect l="l" t="t" r="r" b="b"/>
              <a:pathLst>
                <a:path w="439" h="503">
                  <a:moveTo>
                    <a:pt x="439" y="20"/>
                  </a:moveTo>
                  <a:lnTo>
                    <a:pt x="325" y="134"/>
                  </a:lnTo>
                  <a:lnTo>
                    <a:pt x="235" y="245"/>
                  </a:lnTo>
                  <a:lnTo>
                    <a:pt x="150" y="361"/>
                  </a:lnTo>
                  <a:lnTo>
                    <a:pt x="55" y="490"/>
                  </a:lnTo>
                  <a:lnTo>
                    <a:pt x="30" y="503"/>
                  </a:lnTo>
                  <a:lnTo>
                    <a:pt x="5" y="496"/>
                  </a:lnTo>
                  <a:lnTo>
                    <a:pt x="0" y="446"/>
                  </a:lnTo>
                  <a:lnTo>
                    <a:pt x="100" y="321"/>
                  </a:lnTo>
                  <a:lnTo>
                    <a:pt x="197" y="214"/>
                  </a:lnTo>
                  <a:lnTo>
                    <a:pt x="300" y="112"/>
                  </a:lnTo>
                  <a:lnTo>
                    <a:pt x="418" y="0"/>
                  </a:lnTo>
                  <a:lnTo>
                    <a:pt x="439" y="0"/>
                  </a:lnTo>
                  <a:lnTo>
                    <a:pt x="439" y="20"/>
                  </a:lnTo>
                  <a:lnTo>
                    <a:pt x="439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743200" y="2230920"/>
              <a:ext cx="22320" cy="24120"/>
            </a:xfrm>
            <a:custGeom>
              <a:avLst/>
              <a:gdLst/>
              <a:ahLst/>
              <a:rect l="l" t="t" r="r" b="b"/>
              <a:pathLst>
                <a:path w="127" h="179">
                  <a:moveTo>
                    <a:pt x="64" y="15"/>
                  </a:moveTo>
                  <a:lnTo>
                    <a:pt x="123" y="135"/>
                  </a:lnTo>
                  <a:lnTo>
                    <a:pt x="127" y="162"/>
                  </a:lnTo>
                  <a:lnTo>
                    <a:pt x="112" y="179"/>
                  </a:lnTo>
                  <a:lnTo>
                    <a:pt x="68" y="167"/>
                  </a:lnTo>
                  <a:lnTo>
                    <a:pt x="2" y="48"/>
                  </a:lnTo>
                  <a:lnTo>
                    <a:pt x="0" y="19"/>
                  </a:lnTo>
                  <a:lnTo>
                    <a:pt x="17" y="0"/>
                  </a:lnTo>
                  <a:lnTo>
                    <a:pt x="64" y="15"/>
                  </a:lnTo>
                  <a:lnTo>
                    <a:pt x="64" y="15"/>
                  </a:lnTo>
                  <a:lnTo>
                    <a:pt x="64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888280" y="1800360"/>
              <a:ext cx="299880" cy="63360"/>
            </a:xfrm>
            <a:custGeom>
              <a:avLst/>
              <a:gdLst/>
              <a:ahLst/>
              <a:rect l="l" t="t" r="r" b="b"/>
              <a:pathLst>
                <a:path w="1705" h="468">
                  <a:moveTo>
                    <a:pt x="1692" y="31"/>
                  </a:moveTo>
                  <a:lnTo>
                    <a:pt x="1483" y="61"/>
                  </a:lnTo>
                  <a:lnTo>
                    <a:pt x="1300" y="86"/>
                  </a:lnTo>
                  <a:lnTo>
                    <a:pt x="912" y="145"/>
                  </a:lnTo>
                  <a:lnTo>
                    <a:pt x="705" y="198"/>
                  </a:lnTo>
                  <a:lnTo>
                    <a:pt x="504" y="261"/>
                  </a:lnTo>
                  <a:lnTo>
                    <a:pt x="374" y="295"/>
                  </a:lnTo>
                  <a:lnTo>
                    <a:pt x="262" y="329"/>
                  </a:lnTo>
                  <a:lnTo>
                    <a:pt x="159" y="378"/>
                  </a:lnTo>
                  <a:lnTo>
                    <a:pt x="57" y="456"/>
                  </a:lnTo>
                  <a:lnTo>
                    <a:pt x="32" y="468"/>
                  </a:lnTo>
                  <a:lnTo>
                    <a:pt x="9" y="456"/>
                  </a:lnTo>
                  <a:lnTo>
                    <a:pt x="0" y="435"/>
                  </a:lnTo>
                  <a:lnTo>
                    <a:pt x="9" y="411"/>
                  </a:lnTo>
                  <a:lnTo>
                    <a:pt x="64" y="363"/>
                  </a:lnTo>
                  <a:lnTo>
                    <a:pt x="118" y="325"/>
                  </a:lnTo>
                  <a:lnTo>
                    <a:pt x="228" y="272"/>
                  </a:lnTo>
                  <a:lnTo>
                    <a:pt x="348" y="234"/>
                  </a:lnTo>
                  <a:lnTo>
                    <a:pt x="485" y="198"/>
                  </a:lnTo>
                  <a:lnTo>
                    <a:pt x="690" y="135"/>
                  </a:lnTo>
                  <a:lnTo>
                    <a:pt x="899" y="84"/>
                  </a:lnTo>
                  <a:lnTo>
                    <a:pt x="1283" y="21"/>
                  </a:lnTo>
                  <a:lnTo>
                    <a:pt x="1467" y="6"/>
                  </a:lnTo>
                  <a:lnTo>
                    <a:pt x="1686" y="0"/>
                  </a:lnTo>
                  <a:lnTo>
                    <a:pt x="1705" y="13"/>
                  </a:lnTo>
                  <a:lnTo>
                    <a:pt x="1692" y="31"/>
                  </a:lnTo>
                  <a:lnTo>
                    <a:pt x="1692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908080" y="1819080"/>
              <a:ext cx="122040" cy="105840"/>
            </a:xfrm>
            <a:custGeom>
              <a:avLst/>
              <a:gdLst/>
              <a:ahLst/>
              <a:rect l="l" t="t" r="r" b="b"/>
              <a:pathLst>
                <a:path w="698" h="781">
                  <a:moveTo>
                    <a:pt x="46" y="770"/>
                  </a:moveTo>
                  <a:lnTo>
                    <a:pt x="0" y="460"/>
                  </a:lnTo>
                  <a:lnTo>
                    <a:pt x="8" y="392"/>
                  </a:lnTo>
                  <a:lnTo>
                    <a:pt x="29" y="323"/>
                  </a:lnTo>
                  <a:lnTo>
                    <a:pt x="63" y="260"/>
                  </a:lnTo>
                  <a:lnTo>
                    <a:pt x="112" y="198"/>
                  </a:lnTo>
                  <a:lnTo>
                    <a:pt x="213" y="139"/>
                  </a:lnTo>
                  <a:lnTo>
                    <a:pt x="333" y="93"/>
                  </a:lnTo>
                  <a:lnTo>
                    <a:pt x="441" y="61"/>
                  </a:lnTo>
                  <a:lnTo>
                    <a:pt x="551" y="32"/>
                  </a:lnTo>
                  <a:lnTo>
                    <a:pt x="679" y="0"/>
                  </a:lnTo>
                  <a:lnTo>
                    <a:pt x="698" y="10"/>
                  </a:lnTo>
                  <a:lnTo>
                    <a:pt x="688" y="29"/>
                  </a:lnTo>
                  <a:lnTo>
                    <a:pt x="565" y="68"/>
                  </a:lnTo>
                  <a:lnTo>
                    <a:pt x="462" y="110"/>
                  </a:lnTo>
                  <a:lnTo>
                    <a:pt x="359" y="156"/>
                  </a:lnTo>
                  <a:lnTo>
                    <a:pt x="243" y="207"/>
                  </a:lnTo>
                  <a:lnTo>
                    <a:pt x="165" y="253"/>
                  </a:lnTo>
                  <a:lnTo>
                    <a:pt x="118" y="310"/>
                  </a:lnTo>
                  <a:lnTo>
                    <a:pt x="84" y="367"/>
                  </a:lnTo>
                  <a:lnTo>
                    <a:pt x="49" y="489"/>
                  </a:lnTo>
                  <a:lnTo>
                    <a:pt x="51" y="618"/>
                  </a:lnTo>
                  <a:lnTo>
                    <a:pt x="76" y="762"/>
                  </a:lnTo>
                  <a:lnTo>
                    <a:pt x="65" y="781"/>
                  </a:lnTo>
                  <a:lnTo>
                    <a:pt x="46" y="770"/>
                  </a:lnTo>
                  <a:lnTo>
                    <a:pt x="46" y="7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851560" y="2126880"/>
              <a:ext cx="10800" cy="35280"/>
            </a:xfrm>
            <a:custGeom>
              <a:avLst/>
              <a:gdLst/>
              <a:ahLst/>
              <a:rect l="l" t="t" r="r" b="b"/>
              <a:pathLst>
                <a:path w="62" h="262">
                  <a:moveTo>
                    <a:pt x="43" y="86"/>
                  </a:moveTo>
                  <a:lnTo>
                    <a:pt x="43" y="139"/>
                  </a:lnTo>
                  <a:lnTo>
                    <a:pt x="62" y="262"/>
                  </a:lnTo>
                  <a:lnTo>
                    <a:pt x="2" y="262"/>
                  </a:lnTo>
                  <a:lnTo>
                    <a:pt x="0" y="10"/>
                  </a:lnTo>
                  <a:lnTo>
                    <a:pt x="40" y="0"/>
                  </a:lnTo>
                  <a:lnTo>
                    <a:pt x="53" y="25"/>
                  </a:lnTo>
                  <a:lnTo>
                    <a:pt x="43" y="86"/>
                  </a:lnTo>
                  <a:lnTo>
                    <a:pt x="43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3" name=""/>
          <p:cNvSpPr/>
          <p:nvPr/>
        </p:nvSpPr>
        <p:spPr>
          <a:xfrm>
            <a:off x="3200400" y="2286000"/>
            <a:ext cx="6858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igital Library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Bibliografi (IsisOnlin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ullteks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st practic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lip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atu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por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ida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sis &amp; Diser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pesifikasi Tekn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 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anesha Digital Library (GDL) versi 3.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sisOnline (khusus untuk online CDS/ISIS databas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gdlhub" descr=""/>
          <p:cNvPicPr/>
          <p:nvPr/>
        </p:nvPicPr>
        <p:blipFill>
          <a:blip r:embed="rId1"/>
          <a:stretch/>
        </p:blipFill>
        <p:spPr>
          <a:xfrm>
            <a:off x="928800" y="219240"/>
            <a:ext cx="7286400" cy="6419520"/>
          </a:xfrm>
          <a:prstGeom prst="rect">
            <a:avLst/>
          </a:prstGeom>
          <a:ln w="0">
            <a:noFill/>
          </a:ln>
        </p:spPr>
      </p:pic>
      <p:sp>
        <p:nvSpPr>
          <p:cNvPr id="929" name=""/>
          <p:cNvSpPr/>
          <p:nvPr/>
        </p:nvSpPr>
        <p:spPr>
          <a:xfrm>
            <a:off x="1295280" y="4724280"/>
            <a:ext cx="2895840" cy="3049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4800600" y="228600"/>
            <a:ext cx="387936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b Server IndonesiaDL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gdlhub.indonesiadln.or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klh-front" descr=""/>
          <p:cNvPicPr/>
          <p:nvPr/>
        </p:nvPicPr>
        <p:blipFill>
          <a:blip r:embed="rId1"/>
          <a:stretch/>
        </p:blipFill>
        <p:spPr>
          <a:xfrm>
            <a:off x="609480" y="1295280"/>
            <a:ext cx="7954920" cy="4732560"/>
          </a:xfrm>
          <a:prstGeom prst="rect">
            <a:avLst/>
          </a:prstGeom>
          <a:ln w="0">
            <a:noFill/>
          </a:ln>
        </p:spPr>
      </p:pic>
      <p:sp>
        <p:nvSpPr>
          <p:cNvPr id="932" name=""/>
          <p:cNvSpPr/>
          <p:nvPr/>
        </p:nvSpPr>
        <p:spPr>
          <a:xfrm>
            <a:off x="5490360" y="304920"/>
            <a:ext cx="2722680" cy="825480"/>
          </a:xfrm>
          <a:prstGeom prst="rect">
            <a:avLst/>
          </a:prstGeom>
          <a:solidFill>
            <a:srgbClr val="00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ain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3" name="klh-list" descr=""/>
          <p:cNvPicPr/>
          <p:nvPr/>
        </p:nvPicPr>
        <p:blipFill>
          <a:blip r:embed="rId1"/>
          <a:stretch/>
        </p:blipFill>
        <p:spPr>
          <a:xfrm>
            <a:off x="576360" y="1571760"/>
            <a:ext cx="7989840" cy="3714480"/>
          </a:xfrm>
          <a:prstGeom prst="rect">
            <a:avLst/>
          </a:prstGeom>
          <a:ln w="0">
            <a:noFill/>
          </a:ln>
        </p:spPr>
      </p:pic>
      <p:sp>
        <p:nvSpPr>
          <p:cNvPr id="934" name=""/>
          <p:cNvSpPr/>
          <p:nvPr/>
        </p:nvSpPr>
        <p:spPr>
          <a:xfrm>
            <a:off x="3179520" y="498600"/>
            <a:ext cx="4955400" cy="459720"/>
          </a:xfrm>
          <a:prstGeom prst="rect">
            <a:avLst/>
          </a:prstGeom>
          <a:solidFill>
            <a:srgbClr val="000066"/>
          </a:solidFill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st artikel dalam Digital Library KL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5" name="klh-artikel" descr=""/>
          <p:cNvPicPr/>
          <p:nvPr/>
        </p:nvPicPr>
        <p:blipFill>
          <a:blip r:embed="rId1"/>
          <a:stretch/>
        </p:blipFill>
        <p:spPr>
          <a:xfrm>
            <a:off x="571680" y="776160"/>
            <a:ext cx="8001000" cy="5303880"/>
          </a:xfrm>
          <a:prstGeom prst="rect">
            <a:avLst/>
          </a:prstGeom>
          <a:ln w="0">
            <a:noFill/>
          </a:ln>
        </p:spPr>
      </p:pic>
      <p:sp>
        <p:nvSpPr>
          <p:cNvPr id="936" name=""/>
          <p:cNvSpPr/>
          <p:nvPr/>
        </p:nvSpPr>
        <p:spPr>
          <a:xfrm>
            <a:off x="2116080" y="117360"/>
            <a:ext cx="6217200" cy="459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tail Artikel dengan List File untuk didownlo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PAN ASIA RnD Grants Programm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IDRC Canada, periode November 2000 – Juli 2002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apatkan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Research Grant dari Yayasan Litbang Telekomunikasi dan Informatika (YLTI)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periode November 2000 – Juli 2001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E01562_" descr=""/>
          <p:cNvPicPr/>
          <p:nvPr/>
        </p:nvPicPr>
        <p:blipFill>
          <a:blip r:embed="rId1"/>
          <a:stretch/>
        </p:blipFill>
        <p:spPr>
          <a:xfrm>
            <a:off x="6553080" y="380880"/>
            <a:ext cx="18097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atalog CDS/ISIS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stem Operasi: Linux Redhat 7.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plikasi online: IsisOnline versi 2.0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base source: CDS/I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ent: Web Browser (IE, Netscap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aftar Database Katalog Online CDS/ISI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0" name="klh-isis-1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802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klh-isis-searchres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58988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tail Katalo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3" name="klh-isis-detail" descr=""/>
          <p:cNvPicPr/>
          <p:nvPr/>
        </p:nvPicPr>
        <p:blipFill>
          <a:blip r:embed="rId1"/>
          <a:stretch/>
        </p:blipFill>
        <p:spPr>
          <a:xfrm>
            <a:off x="762120" y="2819520"/>
            <a:ext cx="7772400" cy="31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4" name="klh-isis-order" descr=""/>
          <p:cNvPicPr/>
          <p:nvPr/>
        </p:nvPicPr>
        <p:blipFill>
          <a:blip r:embed="rId1"/>
          <a:stretch/>
        </p:blipFill>
        <p:spPr>
          <a:xfrm>
            <a:off x="762120" y="838080"/>
            <a:ext cx="776124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Bookma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6" name="klh-isis-bookmark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7794720" cy="357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klh-isis-index" descr=""/>
          <p:cNvPicPr/>
          <p:nvPr/>
        </p:nvPicPr>
        <p:blipFill>
          <a:blip r:embed="rId1"/>
          <a:stretch/>
        </p:blipFill>
        <p:spPr>
          <a:xfrm>
            <a:off x="1886040" y="696960"/>
            <a:ext cx="537192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arget Pengguna DL KL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KLH dapat memberi service online kepad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taff internal KLH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swa, mahasiswa, penelit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asyarakat umum, bisnis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SM Lingkungan hidup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ketan Inform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dalam DL KLH dapat dipaketkan dan disebarluaskan melalui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D-ROM digital library KL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emasan ulang menggunakan aplikasi lain (multimedia, presentasi, dl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/ Keuntung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bagai Public Relation KLH kepada masyarakat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ingkatkan akses terhadap informasi dan pengetahuan lingkungan hidup yang dimilik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manfaatkan jaringan IndonesiaDLN untuk disseminasi informasi KL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gintegrasikan resources informasi KLH yang tersebar di berbagai daerah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Kolaborasi dengan institusi lingkungan hidup lainnya (mis. LSM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l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sist" descr=""/>
          <p:cNvPicPr/>
          <p:nvPr/>
        </p:nvPicPr>
        <p:blipFill>
          <a:blip r:embed="rId1"/>
          <a:stretch/>
        </p:blipFill>
        <p:spPr>
          <a:xfrm>
            <a:off x="3486240" y="0"/>
            <a:ext cx="5657760" cy="3429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99cc"/>
              </a:buClr>
              <a:buSzPct val="75000"/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ara Pertama dari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2</a:t>
            </a:r>
            <a:r>
              <a:rPr b="0" lang="en-US" sz="2400" spc="-1" strike="noStrike" baseline="30000">
                <a:solidFill>
                  <a:srgbClr val="ffcc00"/>
                </a:solidFill>
                <a:latin typeface="Tahoma"/>
              </a:rPr>
              <a:t>nd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SIG III ASIST International Paper Cont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November 2001, Washington DC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articipants: 16 countries, 33 papers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udul Paper: “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donesian Digital Library Network is Born to Struggle with The Digital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”*, Ismail Fahmi. </a:t>
            </a:r>
            <a:br>
              <a:rPr sz="2400"/>
            </a:br>
            <a:br>
              <a:rPr sz="2000"/>
            </a:br>
            <a:r>
              <a:rPr b="0" i="1" lang="en-US" sz="1800" spc="-1" strike="noStrike">
                <a:solidFill>
                  <a:srgbClr val="ffffff"/>
                </a:solidFill>
                <a:latin typeface="Tahoma"/>
              </a:rPr>
              <a:t>* Paper dipublikasikan dalam YIILR Journal, 2002, Elsevier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unci Suks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ukungan Pimpinan terhadap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m work digital library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olaborasi dengan komunitas lingkungan hidup (dalam IEDLN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yanan kepada pengguna secara onlin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erimakasi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7" name="BD06518_" descr=""/>
          <p:cNvPicPr/>
          <p:nvPr/>
        </p:nvPicPr>
        <p:blipFill>
          <a:blip r:embed="rId1"/>
          <a:stretch/>
        </p:blipFill>
        <p:spPr>
          <a:xfrm>
            <a:off x="2438280" y="2438280"/>
            <a:ext cx="3194280" cy="24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an-rnd" descr=""/>
          <p:cNvPicPr/>
          <p:nvPr/>
        </p:nvPicPr>
        <p:blipFill>
          <a:blip r:embed="rId1"/>
          <a:stretch/>
        </p:blipFill>
        <p:spPr>
          <a:xfrm>
            <a:off x="4343400" y="1828800"/>
            <a:ext cx="4572000" cy="382284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s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62120" y="2361960"/>
            <a:ext cx="365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99cc"/>
              </a:buClr>
              <a:buSzPct val="75000"/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suk kategori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Innovative Research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dipublikasikan dalam </a:t>
            </a:r>
            <a:r>
              <a:rPr b="0" lang="en-US" sz="2800" spc="-1" strike="noStrike">
                <a:solidFill>
                  <a:srgbClr val="ffcc00"/>
                </a:solidFill>
                <a:latin typeface="Tahoma"/>
              </a:rPr>
              <a:t>PAN ASIA ICT R&amp;D Review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, Mei 2002, IDRC Singapo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Award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95280" y="2361960"/>
            <a:ext cx="4114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99cc"/>
              </a:buClr>
              <a:buSzPct val="75000"/>
              <a:buFont typeface="Tahom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nghargaan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ategori Khusus: Program Favorit Pengurus </a:t>
            </a:r>
            <a:r>
              <a:rPr b="1" lang="en-US" sz="2400" spc="-1" strike="noStrike">
                <a:solidFill>
                  <a:srgbClr val="ffcc00"/>
                </a:solidFill>
                <a:latin typeface="Times New Roman"/>
              </a:rPr>
              <a:t>i2bc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 eAward 200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Indonesia ICT AWARD 2002, </a:t>
            </a: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Kementerian KOMINF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, 12 Agustus 2002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5486400" y="2666880"/>
          <a:ext cx="2895480" cy="178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666880"/>
                    <a:ext cx="2895480" cy="178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0" y="1785960"/>
          <a:ext cx="9144000" cy="506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785960"/>
                    <a:ext cx="9144000" cy="506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1295280" y="914400"/>
            <a:ext cx="7086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is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4343400"/>
            <a:ext cx="379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 u="sng">
                <a:solidFill>
                  <a:srgbClr val="ffcc00"/>
                </a:solidFill>
                <a:uFillTx/>
                <a:latin typeface="Arial"/>
              </a:rPr>
              <a:t>Unlock !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181480" y="3657600"/>
            <a:ext cx="2819520" cy="1905120"/>
            <a:chOff x="5181480" y="3657600"/>
            <a:chExt cx="2819520" cy="1905120"/>
          </a:xfrm>
        </p:grpSpPr>
        <p:sp>
          <p:nvSpPr>
            <p:cNvPr id="125" name=""/>
            <p:cNvSpPr/>
            <p:nvPr/>
          </p:nvSpPr>
          <p:spPr>
            <a:xfrm>
              <a:off x="5181480" y="4343400"/>
              <a:ext cx="1905120" cy="1219320"/>
            </a:xfrm>
            <a:prstGeom prst="can">
              <a:avLst>
                <a:gd name="adj" fmla="val 18490"/>
              </a:avLst>
            </a:prstGeom>
            <a:gradFill rotWithShape="0">
              <a:gsLst>
                <a:gs pos="0">
                  <a:srgbClr val="755e00"/>
                </a:gs>
                <a:gs pos="50000">
                  <a:srgbClr val="ffcc00"/>
                </a:gs>
                <a:gs pos="100000">
                  <a:srgbClr val="755e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553080" y="3657600"/>
              <a:ext cx="1447920" cy="1676520"/>
            </a:xfrm>
            <a:prstGeom prst="blockArc">
              <a:avLst>
                <a:gd name="adj1" fmla="val 10688600"/>
                <a:gd name="adj2" fmla="val 111400"/>
                <a:gd name="adj3" fmla="val 20708"/>
              </a:avLst>
            </a:prstGeom>
            <a:gradFill rotWithShape="0">
              <a:gsLst>
                <a:gs pos="0">
                  <a:srgbClr val="755e00"/>
                </a:gs>
                <a:gs pos="100000">
                  <a:srgbClr val="ffcc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486400" y="4419720"/>
              <a:ext cx="380880" cy="75960"/>
            </a:xfrm>
            <a:prstGeom prst="ellipse">
              <a:avLst/>
            </a:prstGeom>
            <a:solidFill>
              <a:srgbClr val="99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590920" y="1600200"/>
            <a:ext cx="6188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lock </a:t>
            </a:r>
            <a:r>
              <a:rPr b="0" lang="en-US" sz="2800" spc="-1" strike="noStrike" u="sng">
                <a:solidFill>
                  <a:srgbClr val="ffcc00"/>
                </a:solidFill>
                <a:uFillTx/>
                <a:latin typeface="Tahoma"/>
              </a:rPr>
              <a:t>ACCES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to the Indonesian knowled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Visi: </a:t>
            </a: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Network of Networks*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3635280" y="3236760"/>
            <a:ext cx="1774800" cy="890640"/>
          </a:xfrm>
          <a:prstGeom prst="cloudCallout">
            <a:avLst>
              <a:gd name="adj1" fmla="val -6083"/>
              <a:gd name="adj2" fmla="val 40194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  <a:effectLst>
            <a:outerShdw dist="17819" dir="2700000" blurRad="0" rotWithShape="0">
              <a:srgbClr val="00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Central Hu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4040" y="4379760"/>
            <a:ext cx="1774800" cy="571680"/>
          </a:xfrm>
          <a:prstGeom prst="cloudCallout">
            <a:avLst>
              <a:gd name="adj1" fmla="val 121643"/>
              <a:gd name="adj2" fmla="val -110833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Kesehat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24040" y="2857680"/>
            <a:ext cx="1774800" cy="571320"/>
          </a:xfrm>
          <a:prstGeom prst="cloudCallout">
            <a:avLst>
              <a:gd name="adj1" fmla="val 106708"/>
              <a:gd name="adj2" fmla="val 863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Pertani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2286000"/>
            <a:ext cx="1776600" cy="571680"/>
          </a:xfrm>
          <a:prstGeom prst="cloudCallout">
            <a:avLst>
              <a:gd name="adj1" fmla="val -60097"/>
              <a:gd name="adj2" fmla="val 133888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uman Righ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69000" y="3111480"/>
            <a:ext cx="1774800" cy="571680"/>
          </a:xfrm>
          <a:prstGeom prst="cloudCallout">
            <a:avLst>
              <a:gd name="adj1" fmla="val -121912"/>
              <a:gd name="adj2" fmla="val 29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Heritag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594480" y="4127400"/>
            <a:ext cx="1774800" cy="571680"/>
          </a:xfrm>
          <a:prstGeom prst="cloudCallout">
            <a:avLst>
              <a:gd name="adj1" fmla="val -119944"/>
              <a:gd name="adj2" fmla="val -102499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Children Educat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81160" y="2222640"/>
            <a:ext cx="1776600" cy="571320"/>
          </a:xfrm>
          <a:prstGeom prst="cloudCallout">
            <a:avLst>
              <a:gd name="adj1" fmla="val 60902"/>
              <a:gd name="adj2" fmla="val 13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ETD*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68560" y="5079960"/>
            <a:ext cx="1924200" cy="571680"/>
          </a:xfrm>
          <a:prstGeom prst="cloudCallout">
            <a:avLst>
              <a:gd name="adj1" fmla="val 16500"/>
              <a:gd name="adj2" fmla="val -167500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Lingkunga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410080" y="4826160"/>
            <a:ext cx="1924200" cy="571320"/>
          </a:xfrm>
          <a:prstGeom prst="cloudCallout">
            <a:avLst>
              <a:gd name="adj1" fmla="val -74009"/>
              <a:gd name="adj2" fmla="val -184722"/>
            </a:avLst>
          </a:prstGeom>
          <a:gradFill rotWithShape="0">
            <a:gsLst>
              <a:gs pos="0">
                <a:srgbClr val="005e46"/>
              </a:gs>
              <a:gs pos="100000">
                <a:srgbClr val="00cc99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00"/>
                </a:solidFill>
                <a:latin typeface="Arial"/>
              </a:rPr>
              <a:t>Dll.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3960" y="6172200"/>
            <a:ext cx="291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Networks of knowled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0120" y="6172200"/>
            <a:ext cx="425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** Electronic Theses &amp; Dissert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94920" y="6858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atar belaka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94920" y="2361960"/>
            <a:ext cx="7086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Publikas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oleh bangsa Indonesia di level internasional kurang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divid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antar pulau di Indonesia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Informasi online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lebih termanfaatk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elum adanya pengembangan digital library yang terintegras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rpustakaan – sbg </a:t>
            </a:r>
            <a:r>
              <a:rPr b="0" i="1" lang="en-US" sz="2400" spc="-1" strike="noStrike">
                <a:solidFill>
                  <a:srgbClr val="ffcc00"/>
                </a:solidFill>
                <a:latin typeface="Tahoma"/>
              </a:rPr>
              <a:t>information center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– kurang mendapat perhatian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risis ekonomi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disi internet di Indonesia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3" name="BD07311_" descr=""/>
          <p:cNvPicPr/>
          <p:nvPr/>
        </p:nvPicPr>
        <p:blipFill>
          <a:blip r:embed="rId1"/>
          <a:stretch/>
        </p:blipFill>
        <p:spPr>
          <a:xfrm>
            <a:off x="6629400" y="533520"/>
            <a:ext cx="1657440" cy="179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30T16:38:05Z</dcterms:created>
  <dc:creator>Ismail Fahmi</dc:creator>
  <dc:description/>
  <dc:language>en-US</dc:language>
  <cp:lastModifiedBy>Ismail Fahmi</cp:lastModifiedBy>
  <dcterms:modified xsi:type="dcterms:W3CDTF">2002-08-14T07:01:37Z</dcterms:modified>
  <cp:revision>23</cp:revision>
  <dc:subject/>
  <dc:title>The Indonesian Digital Library Network: Menuju Masyarakat Berbasis Ilmu Pengetahuan</dc:title>
</cp:coreProperties>
</file>