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7624-CF6B-4795-8C5F-1E8AF9FA2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4AC-0B7F-4E90-A1A5-347494FED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024-F8E9-4DAE-AD0D-464E3D1D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6970-06C4-45E2-8332-F182515A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138D-5584-48C9-8EAF-9D1793C03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CD1A-6DBB-4029-967A-CF7BCBD5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111C-D859-4194-AD70-B8544FD9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B5B5-92C9-4D6D-81B6-2C20ED26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FA12-5439-49FD-9569-ED4D5205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3FA3C-4873-47DE-961A-3827A347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1A14-0520-4CF5-9356-EC8027EB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5793-5D26-48A6-91D9-7CE458B6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68C3-2315-489D-AAF1-59C728C1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7A96A-DFC4-4142-B393-E656BC66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CD99-964F-475F-8E10-63C69730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D30D-D331-402F-9AF1-A7A01606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D756-5D7F-43CB-B4C2-FBEE239F2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F480-7227-438A-8B0B-8C8E56C5C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A723-52D5-482D-A255-CAE6453C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895-AF8B-4272-8CA8-353F0EDA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C6E-9490-4D64-9D9F-24AEDC10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7A6-4568-496B-ADF0-2B244EB9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964-3F03-4C89-921B-7DA4717E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649-5E0C-44E3-B1FA-40573E9D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9301-CD7B-409A-B54B-47CF1D82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032A-9172-450B-915B-21C6FC6FCBCF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E427-AD19-4731-AE43-5BC57B220106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8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9880" y="990720"/>
            <a:ext cx="4724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Toolki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angun Perpustakaan Berbasis Teknologi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ismail@itb.ac.id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Library Expo 2002, JCC, Jakarta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0" name="PE02002_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463920" cy="346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19040" y="4038480"/>
            <a:ext cx="2221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smail Fahm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202" name="BD06518_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281240" cy="990360"/>
          </a:xfrm>
          <a:prstGeom prst="rect">
            <a:avLst/>
          </a:prstGeom>
          <a:ln w="0">
            <a:noFill/>
          </a:ln>
        </p:spPr>
      </p:pic>
      <p:pic>
        <p:nvPicPr>
          <p:cNvPr id="203" name="BD06662_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204" name="BD05545_" descr=""/>
          <p:cNvPicPr/>
          <p:nvPr/>
        </p:nvPicPr>
        <p:blipFill>
          <a:blip r:embed="rId4"/>
          <a:stretch/>
        </p:blipFill>
        <p:spPr>
          <a:xfrm>
            <a:off x="4572000" y="4419720"/>
            <a:ext cx="1211400" cy="1190520"/>
          </a:xfrm>
          <a:prstGeom prst="rect">
            <a:avLst/>
          </a:prstGeom>
          <a:ln w="0">
            <a:noFill/>
          </a:ln>
        </p:spPr>
      </p:pic>
      <p:pic>
        <p:nvPicPr>
          <p:cNvPr id="205" name="PE01846_" descr=""/>
          <p:cNvPicPr/>
          <p:nvPr/>
        </p:nvPicPr>
        <p:blipFill>
          <a:blip r:embed="rId5"/>
          <a:stretch/>
        </p:blipFill>
        <p:spPr>
          <a:xfrm>
            <a:off x="6781680" y="1981080"/>
            <a:ext cx="1833840" cy="804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62720" y="30481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86400" y="4266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57640" y="457164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467480" y="28954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5240" y="60199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33920" y="3008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0320" y="556272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 Specia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7680" y="27795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5800" y="5562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BS00554_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692280" cy="603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91080" y="25146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og bibliografi, Otoma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91440" y="304812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file, Digital Libra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0416200">
            <a:off x="4800600" y="2286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308000">
            <a:off x="4800240" y="29718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1534600">
            <a:off x="4800240" y="26665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91080" y="1981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jang di rak, Tradisio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04560" y="3160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06517_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10240" y="4227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416200">
            <a:off x="4800240" y="3809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308000">
            <a:off x="480060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1534600">
            <a:off x="4800240" y="40381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9280" y="3581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9640" y="3886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90000" y="42670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E01682_" descr=""/>
          <p:cNvPicPr/>
          <p:nvPr/>
        </p:nvPicPr>
        <p:blipFill>
          <a:blip r:embed="rId3"/>
          <a:stretch/>
        </p:blipFill>
        <p:spPr>
          <a:xfrm>
            <a:off x="3962520" y="4952880"/>
            <a:ext cx="761760" cy="744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89080" y="57150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0416200">
            <a:off x="4800240" y="5181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308000">
            <a:off x="4816440" y="575460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534600">
            <a:off x="4816080" y="544968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9280" y="48769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tu k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90000" y="53341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 intrane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90000" y="57913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c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9640" y="61722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2388000">
            <a:off x="4816440" y="60595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286000"/>
            <a:ext cx="152388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om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267080"/>
            <a:ext cx="16002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3276720"/>
            <a:ext cx="12956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gad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talog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657600"/>
            <a:ext cx="2286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657600"/>
            <a:ext cx="17524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1640" y="266688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6668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410080"/>
            <a:ext cx="12956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ital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semin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5791320"/>
            <a:ext cx="2286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5791320"/>
            <a:ext cx="266688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647960" y="480060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4800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48006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54100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E01023_" descr=""/>
          <p:cNvPicPr/>
          <p:nvPr/>
        </p:nvPicPr>
        <p:blipFill>
          <a:blip r:embed="rId1"/>
          <a:stretch/>
        </p:blipFill>
        <p:spPr>
          <a:xfrm>
            <a:off x="4759200" y="2286000"/>
            <a:ext cx="1019160" cy="1600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778720" y="2550960"/>
            <a:ext cx="15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ang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i awal/n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cr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E01460_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1089000" cy="1352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73440" y="4075200"/>
            <a:ext cx="14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-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BD05584_" descr=""/>
          <p:cNvPicPr/>
          <p:nvPr/>
        </p:nvPicPr>
        <p:blipFill>
          <a:blip r:embed="rId3"/>
          <a:stretch/>
        </p:blipFill>
        <p:spPr>
          <a:xfrm>
            <a:off x="5715000" y="5105520"/>
            <a:ext cx="1009800" cy="1347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845040" y="52182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ourc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beli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733920" y="3200400"/>
            <a:ext cx="10666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733920" y="47242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486400"/>
            <a:ext cx="1752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419720" y="2133720"/>
            <a:ext cx="0" cy="1218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327672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0481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56272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80920" y="20415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91320" y="3260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6080" y="2286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3440" y="18288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IG BA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19720" y="4319280"/>
            <a:ext cx="0" cy="1219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46264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52578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952880" y="50288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50840" y="57150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0920" y="42274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91320" y="5446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1000" y="48769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168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152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50840" y="3581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0168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152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62720" y="4800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800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23920" y="40752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DI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55360" y="4952880"/>
            <a:ext cx="18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Catalogis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Sirkul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4480" y="4952880"/>
            <a:ext cx="339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You have to win the heart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 minds of the  work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not like troop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more like volunte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30800" y="2170080"/>
            <a:ext cx="380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 perlu seor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IMPIN yang mampu memba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pada kemenangan, CK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ief Knowledge Offic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kasi, motivasi, 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 impact library s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etaan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31880" y="4913280"/>
            <a:ext cx="38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pustakaan modern dan poten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ju perlu memberika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wa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hargaan kepada team. Insentif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, promosi, dll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4: Evalua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ualitas, dan perbai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56280" y="2170080"/>
            <a:ext cx="3758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 evaluasi menggunak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sonomi berdasarkan kategor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dan keingi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gukur kepua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 perubahan 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trate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petisi,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al, strukt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duk dan laya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s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st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5360" y="3770280"/>
            <a:ext cx="344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ampak penerapan TI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trategi perpustakaan ha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iukur. Apakah bermanfa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a yang perlu ditingkatk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ll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erlu evaluasi dan pengukuran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 dan target yang je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jemen Reward yang menar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usias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si, benchmarking, monitoring, perubaha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ad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SY00451_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26874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 itu PERPUSTAKA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nis perpustakaan: pribadi, institusi, umum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 dapat MENDUKUNG fungsi perpustakaan: pengadaan, katalogisasi, sirkulasi, pencarian informasi, statistik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jaksana dalam menerapkan TI di perpustakaan: Kapan dan dimana TI digun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BD05297_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16016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Pribadi vs Toko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. Pribadi di rumah-rumah, keperluan sendiri, biasanya tidak perlu TI. Koleksi sedikit, dan kenyamanan lokasi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koleksi khusus (Tokoh) misal Bung Karno, Roosevelt, … banyak dicari orang. Koleksi lebih penting dari pada lok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E01753_" descr=""/>
          <p:cNvPicPr/>
          <p:nvPr/>
        </p:nvPicPr>
        <p:blipFill>
          <a:blip r:embed="rId1"/>
          <a:stretch/>
        </p:blipFill>
        <p:spPr>
          <a:xfrm>
            <a:off x="0" y="304920"/>
            <a:ext cx="1335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institusi vs um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: universitas, company, dll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um: perpumda, pondok baca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yamanan lokasi dan kelengkapan koleksi sangat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yani pengguna yang banyak dan lu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lu dukungan TI baik minimal maupun maxi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E03254_" descr=""/>
          <p:cNvPicPr/>
          <p:nvPr/>
        </p:nvPicPr>
        <p:blipFill>
          <a:blip r:embed="rId1"/>
          <a:stretch/>
        </p:blipFill>
        <p:spPr>
          <a:xfrm>
            <a:off x="7086600" y="91440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D00028_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209680" cy="21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kah Perpustakan Anda Butuh T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erapan TI bukan sekedar gengsi, tetapi sebuah strateg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apa  perlu T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apa yang membutuh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jauh mana TI akan diterap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gaimana strategi peningkatan skill SDM penduku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l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ad Map: 4 Fa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56272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200400"/>
            <a:ext cx="2514600" cy="8380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sis, Desa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286000"/>
            <a:ext cx="190512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er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572000"/>
            <a:ext cx="91440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4600" y="49528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339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5410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uh 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02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4880" y="51055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8360" y="411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29200" y="289512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572000"/>
            <a:ext cx="1447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h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14300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00800" y="1752480"/>
            <a:ext cx="304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 Instit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BS00554_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768240" cy="671400"/>
          </a:xfrm>
          <a:prstGeom prst="rect">
            <a:avLst/>
          </a:prstGeom>
          <a:ln w="0">
            <a:noFill/>
          </a:ln>
        </p:spPr>
      </p:pic>
      <p:pic>
        <p:nvPicPr>
          <p:cNvPr id="149" name="PE01460_" descr=""/>
          <p:cNvPicPr/>
          <p:nvPr/>
        </p:nvPicPr>
        <p:blipFill>
          <a:blip r:embed="rId2"/>
          <a:stretch/>
        </p:blipFill>
        <p:spPr>
          <a:xfrm>
            <a:off x="6219720" y="1523880"/>
            <a:ext cx="843120" cy="104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21880" y="26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70520" y="2514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umen tekn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5400" y="4038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BD05158_" descr=""/>
          <p:cNvPicPr/>
          <p:nvPr/>
        </p:nvPicPr>
        <p:blipFill>
          <a:blip r:embed="rId3"/>
          <a:stretch/>
        </p:blipFill>
        <p:spPr>
          <a:xfrm>
            <a:off x="4876920" y="4495680"/>
            <a:ext cx="888840" cy="8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3440" y="5334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bar, fot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,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BS00580_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83952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EN00354_" descr=""/>
          <p:cNvPicPr/>
          <p:nvPr/>
        </p:nvPicPr>
        <p:blipFill>
          <a:blip r:embed="rId5"/>
          <a:stretch/>
        </p:blipFill>
        <p:spPr>
          <a:xfrm>
            <a:off x="5410080" y="4724280"/>
            <a:ext cx="843120" cy="660600"/>
          </a:xfrm>
          <a:prstGeom prst="rect">
            <a:avLst/>
          </a:prstGeom>
          <a:ln w="0">
            <a:noFill/>
          </a:ln>
        </p:spPr>
      </p:pic>
      <p:pic>
        <p:nvPicPr>
          <p:cNvPr id="157" name="BD06675_" descr=""/>
          <p:cNvPicPr/>
          <p:nvPr/>
        </p:nvPicPr>
        <p:blipFill>
          <a:blip r:embed="rId6"/>
          <a:stretch/>
        </p:blipFill>
        <p:spPr>
          <a:xfrm>
            <a:off x="6629400" y="5029200"/>
            <a:ext cx="777960" cy="961920"/>
          </a:xfrm>
          <a:prstGeom prst="rect">
            <a:avLst/>
          </a:prstGeom>
          <a:ln w="0">
            <a:noFill/>
          </a:ln>
        </p:spPr>
      </p:pic>
      <p:pic>
        <p:nvPicPr>
          <p:cNvPr id="158" name="PE01561_" descr=""/>
          <p:cNvPicPr/>
          <p:nvPr/>
        </p:nvPicPr>
        <p:blipFill>
          <a:blip r:embed="rId7"/>
          <a:stretch/>
        </p:blipFill>
        <p:spPr>
          <a:xfrm>
            <a:off x="7315200" y="4141800"/>
            <a:ext cx="1376280" cy="912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23160" y="59436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ldwide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58720" y="4989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7432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43600" y="42667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781680" y="4419360"/>
            <a:ext cx="1526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5909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600" y="403812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7800" y="4724280"/>
            <a:ext cx="439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pa koleksi yang dimilik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apa yang memanfaatk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Dari mana, kapan, dan bagaimana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mereka mengak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dakah proses yang membutuhka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dukungan teknologi informas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E01561_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11240" cy="12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9280" y="29718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penggun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BD08911_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1135080" cy="106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85080" y="4761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si ya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eka butuh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BD06639_" descr=""/>
          <p:cNvPicPr/>
          <p:nvPr/>
        </p:nvPicPr>
        <p:blipFill>
          <a:blip r:embed="rId3"/>
          <a:stretch/>
        </p:blipFill>
        <p:spPr>
          <a:xfrm>
            <a:off x="6095880" y="1676520"/>
            <a:ext cx="920880" cy="920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251040" y="25146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BS00554_" descr=""/>
          <p:cNvPicPr/>
          <p:nvPr/>
        </p:nvPicPr>
        <p:blipFill>
          <a:blip r:embed="rId4"/>
          <a:stretch/>
        </p:blipFill>
        <p:spPr>
          <a:xfrm>
            <a:off x="5867280" y="4648320"/>
            <a:ext cx="1378080" cy="1201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77160" y="59040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 yang disedia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E01682_" descr=""/>
          <p:cNvPicPr/>
          <p:nvPr/>
        </p:nvPicPr>
        <p:blipFill>
          <a:blip r:embed="rId5"/>
          <a:stretch/>
        </p:blipFill>
        <p:spPr>
          <a:xfrm>
            <a:off x="7391520" y="3886200"/>
            <a:ext cx="1163520" cy="1136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359840" y="4989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9718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029200" y="411480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781680" y="4343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162560" y="41911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BD06790_" descr=""/>
          <p:cNvPicPr/>
          <p:nvPr/>
        </p:nvPicPr>
        <p:blipFill>
          <a:blip r:embed="rId6"/>
          <a:stretch/>
        </p:blipFill>
        <p:spPr>
          <a:xfrm>
            <a:off x="7696080" y="1905120"/>
            <a:ext cx="10512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8480" y="28558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 T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238520" y="26668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2:46:44Z</dcterms:created>
  <dc:creator>Ismail Fahmi</dc:creator>
  <dc:description/>
  <dc:language>en-US</dc:language>
  <cp:lastModifiedBy>Ismail Fahmi</cp:lastModifiedBy>
  <dcterms:modified xsi:type="dcterms:W3CDTF">2002-07-30T16:36:23Z</dcterms:modified>
  <cp:revision>18</cp:revision>
  <dc:subject/>
  <dc:title>Toolkit Teknologi Informasi di Perpustakaan</dc:title>
</cp:coreProperties>
</file>