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212-7151-4E34-93C6-69251362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E6A-8228-4668-96C5-B33027BB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7D3-AF58-4EAC-8954-6DFAEF09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952-B5E4-430E-890D-D0A6E6F2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9097-2665-4A9A-984E-F0CFEA27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50E4-E334-499E-B052-55B4AA1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9C91-6AA4-45B6-BBBC-9B98BB5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088C-E647-4A27-82F6-D673D36C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5F97-CEC1-442E-BC8F-13E87E9C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A18-3DF4-48C2-9F74-3FBF2F3A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DF02-4BD4-4745-B276-BBD9C8FE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1B4-EE4D-4CB1-B7C6-C0D256DC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701A-6B2D-40B8-8D69-03090B3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0AF8-554B-445E-B291-5F4BD909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7BF7-4539-4F65-8A21-86E1D08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A6B0-A68C-42F5-AAF1-40D1CAB5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E3DD-2E55-4D4A-8BFE-1DB0990E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728-9BD3-4853-AB3F-CE72A78F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30E-B3B2-434B-AB4D-DEA8EAAE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559-5E19-4017-A6F4-C3332343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6B5-92C1-421D-BD0E-B9DE7759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963-295A-47E3-98F3-042AE35A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C18-4C77-4914-B74B-F2BDD5B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1D4-FBBC-4AE4-9D97-AC6FD98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54DE-558B-4E75-BDE8-575E53854E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A5B5-749B-46CD-8256-A3997542AA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59092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STASIUN RADIO HARUS MEMILIKI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LL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114800"/>
            <a:ext cx="8686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PANCARAN RADIO HARUS SELAL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YEBUTKAN CALLSIGN DENGAN LENGKAP DALAM INTERVAL PEND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78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= NAMA PANGGI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5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GKUL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M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MPU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S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S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SAA - YZZ          ZS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M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MZZ          ZAA - ZM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A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N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N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NAA - PZZ          ZN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A.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PZZ          ZH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N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NZZ          ZHA - Z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OA - T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O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OAA - PZZ          ZO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752480"/>
            <a:ext cx="94788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3240" y="1752480"/>
            <a:ext cx="209052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752480"/>
            <a:ext cx="2057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H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HZZ          ZHA - Z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I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IAA - LZZ          ZI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-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8            RAA - S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4572000"/>
            <a:ext cx="8686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5334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–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– U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52578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52578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E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M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23888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752480"/>
            <a:ext cx="94788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1752480"/>
            <a:ext cx="209052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1752480"/>
            <a:ext cx="205740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881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251460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4567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A - YZZ          ZV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200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200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562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–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RONTAL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G, YF,Y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RAA - SZZ          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21480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-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-U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44956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4956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181480"/>
            <a:ext cx="86868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253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 UTARA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867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–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XAA - Y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8672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1752480"/>
            <a:ext cx="94788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3240" y="1752480"/>
            <a:ext cx="209052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752480"/>
            <a:ext cx="20574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F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FZZ          ZAA - ZF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B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GA - K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 - Z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GAA - KZZ         ZGA - Z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Q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U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4572000"/>
            <a:ext cx="86868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T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L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L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LAA - PZZ          ZL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SUSUN DALAM BENTUK KOMBINAS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URUF DAN ANG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AM SATU KESATUAN YANG TERDIRI ATA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FIX &amp; SUF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0384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LOKASI (NEGARA &amp; W.R.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LENGKAPAN PREFIX UNTU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PEMILIK STASI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ahoma"/>
              </a:rPr>
              <a:t>YB</a:t>
            </a:r>
            <a:r>
              <a:rPr b="1" lang="en-US" sz="8000" spc="-1" strike="noStrike">
                <a:solidFill>
                  <a:srgbClr val="3333ff"/>
                </a:solidFill>
                <a:latin typeface="Tahoma"/>
                <a:ea typeface="Arial"/>
              </a:rPr>
              <a:t>ØCAK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KA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019920"/>
            <a:ext cx="2009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5120" y="5633640"/>
            <a:ext cx="91440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19040" y="262908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3124080" y="243828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50532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133720"/>
            <a:ext cx="4648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r. Iskandar A.Q. SAL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. PLN Duren Tiga, Jl, Jatiluhur no.34. JAKARTA 12760 -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505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JAWA BA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47760" y="601992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86000" y="5633640"/>
            <a:ext cx="53352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62000" y="27050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3047760" y="281916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66480" y="3733920"/>
            <a:ext cx="28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133720"/>
            <a:ext cx="3276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ON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 RUA AGUSTA        SAO PAULO - 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6524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Y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981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9810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P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85144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49108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O PA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L 0.22916 0.00671 E">
                                      <p:cBhvr>
                                        <p:cTn id="1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-0.21666 6.93642E-007 E">
                                      <p:cBhvr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884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TINGKATAN /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mula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 Cod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D &amp; Y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ag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vice   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C &amp; YF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ggala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General 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B &amp; Y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ega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Advance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58200" cy="4224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5988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WILAYAH RADIO AMATIR = CALL AREA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F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 s/d 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 dgn rekomendasi ORARI Pu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505320"/>
            <a:ext cx="678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ZA s/d ZZ   &amp;   ZAA s/d Z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5484960"/>
            <a:ext cx="8534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0319"/>
                </a:solidFill>
                <a:latin typeface="Tahoma"/>
              </a:rPr>
              <a:t>QAA s/d QZZ, SOS, TTT, XXX, DDD</a:t>
            </a:r>
            <a:r>
              <a:rPr b="1" lang="en-US" sz="3200" spc="-1" strike="noStrike">
                <a:solidFill>
                  <a:srgbClr val="e90319"/>
                </a:solidFill>
                <a:latin typeface="Tahoma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DAK DIALOKAS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46580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A s/d AZ,  AAA s/d PZZ,  RAA s/d Y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PERORA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KART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Q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Q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T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R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R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 ZR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I.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752480"/>
            <a:ext cx="94788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1752480"/>
            <a:ext cx="209052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752480"/>
            <a:ext cx="20574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MB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E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EZZ          ZAA - Z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19112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9053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          ZF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848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8481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5486400"/>
            <a:ext cx="86868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5101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B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ZFA - Z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167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6095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60958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4:32:59Z</dcterms:created>
  <dc:creator>.</dc:creator>
  <dc:description/>
  <dc:language>en-US</dc:language>
  <cp:lastModifiedBy>Ir. Iskandar A.Q. SALEH</cp:lastModifiedBy>
  <dcterms:modified xsi:type="dcterms:W3CDTF">2004-05-07T05:10:28Z</dcterms:modified>
  <cp:revision>9</cp:revision>
  <dc:subject/>
  <dc:title>Slide 1</dc:title>
</cp:coreProperties>
</file>